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B682EB-170D-4E1A-8EF2-187695265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81000" y="0"/>
            <a:ext cx="8464680" cy="1257480"/>
          </a:xfrm>
          <a:prstGeom prst="rect">
            <a:avLst/>
          </a:prstGeom>
          <a:solidFill>
            <a:srgbClr val="f6bf6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14280" y="0"/>
            <a:ext cx="1006560" cy="684864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896760" y="841320"/>
            <a:ext cx="852840" cy="851040"/>
            <a:chOff x="896760" y="841320"/>
            <a:chExt cx="852840" cy="851040"/>
          </a:xfrm>
        </p:grpSpPr>
        <p:sp>
          <p:nvSpPr>
            <p:cNvPr id="3" name=""/>
            <p:cNvSpPr/>
            <p:nvPr/>
          </p:nvSpPr>
          <p:spPr>
            <a:xfrm>
              <a:off x="896760" y="841320"/>
              <a:ext cx="838080" cy="8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898560" y="841320"/>
              <a:ext cx="851040" cy="85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 txBox="1"/>
          <p:nvPr/>
        </p:nvSpPr>
        <p:spPr>
          <a:xfrm>
            <a:off x="9101160" y="6608880"/>
            <a:ext cx="32544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109C7195-6653-4296-BF33-B9ECA414D648}" type="slidenum">
              <a:rPr b="0" lang="en-US" sz="1000" spc="-1" strike="noStrike">
                <a:solidFill>
                  <a:srgbClr val="ef91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000080" y="30481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ts val="3300"/>
              </a:lnSpc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LUTION GUID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DING A BETTER NETWORK</a:t>
            </a:r>
            <a:br>
              <a:rPr sz="18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622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ts val="33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ts val="33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ge Networks, Autumn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ge Op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901880" y="18288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Benef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cellent cost/benefi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ing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ingle mod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osts backbone bandwidth from 10 Mbps to 1.28 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verages customer investment in existing shared-media modules and hub chas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red and switched coexist in the hub so customer can introduce switching grad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825560" y="213372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al sal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Rs sales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nd us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er will gain a better understanding of the networking solutions being offered by Madge, how to present them, and how to implemen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057720" y="942840"/>
            <a:ext cx="266688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05400" y="3962520"/>
            <a:ext cx="4572000" cy="2798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901880" y="18288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and/Update as new products becom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WAN access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corporate suggestions/input from the f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130480" y="2133720"/>
            <a:ext cx="6032520" cy="32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Tool - Wha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Audience - For wh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ture - Dir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4538520" y="4495680"/>
            <a:ext cx="4191840" cy="1448280"/>
            <a:chOff x="4538520" y="4495680"/>
            <a:chExt cx="4191840" cy="1448280"/>
          </a:xfrm>
        </p:grpSpPr>
        <p:grpSp>
          <p:nvGrpSpPr>
            <p:cNvPr id="55" name=""/>
            <p:cNvGrpSpPr/>
            <p:nvPr/>
          </p:nvGrpSpPr>
          <p:grpSpPr>
            <a:xfrm>
              <a:off x="4538520" y="4495680"/>
              <a:ext cx="4191840" cy="1445040"/>
              <a:chOff x="4538520" y="4495680"/>
              <a:chExt cx="4191840" cy="1445040"/>
            </a:xfrm>
          </p:grpSpPr>
          <p:sp>
            <p:nvSpPr>
              <p:cNvPr id="56" name=""/>
              <p:cNvSpPr/>
              <p:nvPr/>
            </p:nvSpPr>
            <p:spPr>
              <a:xfrm>
                <a:off x="4589640" y="4495680"/>
                <a:ext cx="4140720" cy="1445040"/>
              </a:xfrm>
              <a:custGeom>
                <a:avLst/>
                <a:gdLst/>
                <a:ahLst/>
                <a:rect l="0" t="0" r="r" b="b"/>
                <a:pathLst>
                  <a:path w="11502" h="4014">
                    <a:moveTo>
                      <a:pt x="0" y="1416"/>
                    </a:moveTo>
                    <a:lnTo>
                      <a:pt x="6260" y="0"/>
                    </a:lnTo>
                    <a:lnTo>
                      <a:pt x="6275" y="18"/>
                    </a:lnTo>
                    <a:lnTo>
                      <a:pt x="6407" y="58"/>
                    </a:lnTo>
                    <a:lnTo>
                      <a:pt x="6523" y="55"/>
                    </a:lnTo>
                    <a:lnTo>
                      <a:pt x="11502" y="1073"/>
                    </a:lnTo>
                    <a:lnTo>
                      <a:pt x="11502" y="1116"/>
                    </a:lnTo>
                    <a:lnTo>
                      <a:pt x="11207" y="1205"/>
                    </a:lnTo>
                    <a:lnTo>
                      <a:pt x="11201" y="1232"/>
                    </a:lnTo>
                    <a:lnTo>
                      <a:pt x="11180" y="1306"/>
                    </a:lnTo>
                    <a:lnTo>
                      <a:pt x="11170" y="1385"/>
                    </a:lnTo>
                    <a:lnTo>
                      <a:pt x="11149" y="1474"/>
                    </a:lnTo>
                    <a:lnTo>
                      <a:pt x="11133" y="1559"/>
                    </a:lnTo>
                    <a:lnTo>
                      <a:pt x="11128" y="1623"/>
                    </a:lnTo>
                    <a:lnTo>
                      <a:pt x="11122" y="1678"/>
                    </a:lnTo>
                    <a:lnTo>
                      <a:pt x="11117" y="1727"/>
                    </a:lnTo>
                    <a:lnTo>
                      <a:pt x="11112" y="1767"/>
                    </a:lnTo>
                    <a:lnTo>
                      <a:pt x="11112" y="1801"/>
                    </a:lnTo>
                    <a:lnTo>
                      <a:pt x="11112" y="1850"/>
                    </a:lnTo>
                    <a:lnTo>
                      <a:pt x="11112" y="1895"/>
                    </a:lnTo>
                    <a:lnTo>
                      <a:pt x="11128" y="1947"/>
                    </a:lnTo>
                    <a:lnTo>
                      <a:pt x="11444" y="2005"/>
                    </a:lnTo>
                    <a:lnTo>
                      <a:pt x="11444" y="2036"/>
                    </a:lnTo>
                    <a:lnTo>
                      <a:pt x="5321" y="4014"/>
                    </a:lnTo>
                    <a:lnTo>
                      <a:pt x="279" y="2540"/>
                    </a:lnTo>
                    <a:lnTo>
                      <a:pt x="158" y="2485"/>
                    </a:lnTo>
                    <a:lnTo>
                      <a:pt x="0" y="2488"/>
                    </a:lnTo>
                    <a:lnTo>
                      <a:pt x="0" y="1416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4538520" y="5006880"/>
                <a:ext cx="98280" cy="38268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4646520" y="4862520"/>
              <a:ext cx="4062600" cy="1064160"/>
            </a:xfrm>
            <a:custGeom>
              <a:avLst/>
              <a:gdLst/>
              <a:ahLst/>
              <a:rect l="0" t="0" r="r" b="b"/>
              <a:pathLst>
                <a:path w="11285" h="2956">
                  <a:moveTo>
                    <a:pt x="0" y="1455"/>
                  </a:moveTo>
                  <a:lnTo>
                    <a:pt x="174" y="1354"/>
                  </a:lnTo>
                  <a:lnTo>
                    <a:pt x="5431" y="0"/>
                  </a:lnTo>
                  <a:lnTo>
                    <a:pt x="11285" y="991"/>
                  </a:lnTo>
                  <a:lnTo>
                    <a:pt x="5172" y="2956"/>
                  </a:lnTo>
                  <a:lnTo>
                    <a:pt x="0" y="1455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6456240" y="4923000"/>
              <a:ext cx="2172240" cy="972360"/>
              <a:chOff x="6456240" y="4923000"/>
              <a:chExt cx="2172240" cy="972360"/>
            </a:xfrm>
          </p:grpSpPr>
          <p:sp>
            <p:nvSpPr>
              <p:cNvPr id="60" name=""/>
              <p:cNvSpPr/>
              <p:nvPr/>
            </p:nvSpPr>
            <p:spPr>
              <a:xfrm>
                <a:off x="6485040" y="4923000"/>
                <a:ext cx="2143440" cy="968760"/>
              </a:xfrm>
              <a:custGeom>
                <a:avLst/>
                <a:gdLst/>
                <a:ahLst/>
                <a:rect l="0" t="0" r="r" b="b"/>
                <a:pathLst>
                  <a:path w="5954" h="2691">
                    <a:moveTo>
                      <a:pt x="0" y="1789"/>
                    </a:moveTo>
                    <a:lnTo>
                      <a:pt x="57" y="2691"/>
                    </a:lnTo>
                    <a:lnTo>
                      <a:pt x="5864" y="808"/>
                    </a:lnTo>
                    <a:lnTo>
                      <a:pt x="5843" y="667"/>
                    </a:lnTo>
                    <a:lnTo>
                      <a:pt x="5849" y="584"/>
                    </a:lnTo>
                    <a:lnTo>
                      <a:pt x="5854" y="496"/>
                    </a:lnTo>
                    <a:lnTo>
                      <a:pt x="5859" y="420"/>
                    </a:lnTo>
                    <a:lnTo>
                      <a:pt x="5875" y="313"/>
                    </a:lnTo>
                    <a:lnTo>
                      <a:pt x="5891" y="219"/>
                    </a:lnTo>
                    <a:lnTo>
                      <a:pt x="5906" y="149"/>
                    </a:lnTo>
                    <a:lnTo>
                      <a:pt x="5927" y="54"/>
                    </a:lnTo>
                    <a:lnTo>
                      <a:pt x="5954" y="0"/>
                    </a:lnTo>
                    <a:lnTo>
                      <a:pt x="0" y="178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456240" y="5574960"/>
                <a:ext cx="67320" cy="320400"/>
              </a:xfrm>
              <a:custGeom>
                <a:avLst/>
                <a:gdLst/>
                <a:ahLst/>
                <a:rect l="0" t="0" r="r" b="b"/>
                <a:pathLst>
                  <a:path w="187" h="890">
                    <a:moveTo>
                      <a:pt x="187" y="428"/>
                    </a:moveTo>
                    <a:lnTo>
                      <a:pt x="97" y="0"/>
                    </a:lnTo>
                    <a:lnTo>
                      <a:pt x="97" y="0"/>
                    </a:lnTo>
                    <a:cubicBezTo>
                      <a:pt x="95" y="2"/>
                      <a:pt x="94" y="3"/>
                      <a:pt x="93" y="5"/>
                    </a:cubicBezTo>
                    <a:cubicBezTo>
                      <a:pt x="65" y="48"/>
                      <a:pt x="41" y="110"/>
                      <a:pt x="25" y="184"/>
                    </a:cubicBezTo>
                    <a:cubicBezTo>
                      <a:pt x="9" y="259"/>
                      <a:pt x="0" y="343"/>
                      <a:pt x="0" y="429"/>
                    </a:cubicBezTo>
                    <a:cubicBezTo>
                      <a:pt x="0" y="515"/>
                      <a:pt x="9" y="599"/>
                      <a:pt x="25" y="674"/>
                    </a:cubicBezTo>
                    <a:cubicBezTo>
                      <a:pt x="41" y="748"/>
                      <a:pt x="65" y="810"/>
                      <a:pt x="93" y="853"/>
                    </a:cubicBezTo>
                    <a:cubicBezTo>
                      <a:pt x="103" y="868"/>
                      <a:pt x="113" y="880"/>
                      <a:pt x="124" y="890"/>
                    </a:cubicBezTo>
                    <a:lnTo>
                      <a:pt x="187" y="428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6475320" y="4925880"/>
              <a:ext cx="2151360" cy="873360"/>
            </a:xfrm>
            <a:custGeom>
              <a:avLst/>
              <a:gdLst/>
              <a:ahLst/>
              <a:rect l="0" t="0" r="r" b="b"/>
              <a:pathLst>
                <a:path w="5976" h="2426">
                  <a:moveTo>
                    <a:pt x="36" y="1782"/>
                  </a:moveTo>
                  <a:lnTo>
                    <a:pt x="0" y="1874"/>
                  </a:lnTo>
                  <a:lnTo>
                    <a:pt x="246" y="1983"/>
                  </a:lnTo>
                  <a:lnTo>
                    <a:pt x="136" y="2035"/>
                  </a:lnTo>
                  <a:lnTo>
                    <a:pt x="278" y="1999"/>
                  </a:lnTo>
                  <a:lnTo>
                    <a:pt x="536" y="2112"/>
                  </a:lnTo>
                  <a:lnTo>
                    <a:pt x="126" y="2234"/>
                  </a:lnTo>
                  <a:lnTo>
                    <a:pt x="567" y="2136"/>
                  </a:lnTo>
                  <a:lnTo>
                    <a:pt x="888" y="2286"/>
                  </a:lnTo>
                  <a:lnTo>
                    <a:pt x="982" y="2322"/>
                  </a:lnTo>
                  <a:lnTo>
                    <a:pt x="693" y="2426"/>
                  </a:lnTo>
                  <a:lnTo>
                    <a:pt x="1014" y="2340"/>
                  </a:lnTo>
                  <a:lnTo>
                    <a:pt x="1087" y="2374"/>
                  </a:lnTo>
                  <a:lnTo>
                    <a:pt x="5918" y="811"/>
                  </a:lnTo>
                  <a:lnTo>
                    <a:pt x="5897" y="796"/>
                  </a:lnTo>
                  <a:lnTo>
                    <a:pt x="5876" y="738"/>
                  </a:lnTo>
                  <a:lnTo>
                    <a:pt x="5871" y="674"/>
                  </a:lnTo>
                  <a:lnTo>
                    <a:pt x="5876" y="579"/>
                  </a:lnTo>
                  <a:lnTo>
                    <a:pt x="5897" y="341"/>
                  </a:lnTo>
                  <a:lnTo>
                    <a:pt x="5913" y="247"/>
                  </a:lnTo>
                  <a:lnTo>
                    <a:pt x="5934" y="152"/>
                  </a:lnTo>
                  <a:lnTo>
                    <a:pt x="5955" y="61"/>
                  </a:lnTo>
                  <a:lnTo>
                    <a:pt x="5976" y="0"/>
                  </a:lnTo>
                  <a:lnTo>
                    <a:pt x="36" y="1782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78480" y="5024520"/>
              <a:ext cx="1914840" cy="873360"/>
            </a:xfrm>
            <a:custGeom>
              <a:avLst/>
              <a:gdLst/>
              <a:ahLst/>
              <a:rect l="0" t="0" r="r" b="b"/>
              <a:pathLst>
                <a:path w="5319" h="2426">
                  <a:moveTo>
                    <a:pt x="83" y="0"/>
                  </a:moveTo>
                  <a:lnTo>
                    <a:pt x="194" y="64"/>
                  </a:lnTo>
                  <a:lnTo>
                    <a:pt x="272" y="70"/>
                  </a:lnTo>
                  <a:lnTo>
                    <a:pt x="5266" y="1517"/>
                  </a:lnTo>
                  <a:lnTo>
                    <a:pt x="5229" y="1608"/>
                  </a:lnTo>
                  <a:lnTo>
                    <a:pt x="5208" y="1730"/>
                  </a:lnTo>
                  <a:lnTo>
                    <a:pt x="5193" y="1922"/>
                  </a:lnTo>
                  <a:lnTo>
                    <a:pt x="5203" y="2093"/>
                  </a:lnTo>
                  <a:lnTo>
                    <a:pt x="5240" y="2249"/>
                  </a:lnTo>
                  <a:lnTo>
                    <a:pt x="5292" y="2386"/>
                  </a:lnTo>
                  <a:lnTo>
                    <a:pt x="5319" y="2426"/>
                  </a:lnTo>
                  <a:lnTo>
                    <a:pt x="2893" y="1730"/>
                  </a:lnTo>
                  <a:lnTo>
                    <a:pt x="362" y="997"/>
                  </a:lnTo>
                  <a:lnTo>
                    <a:pt x="262" y="967"/>
                  </a:lnTo>
                  <a:lnTo>
                    <a:pt x="131" y="973"/>
                  </a:lnTo>
                  <a:lnTo>
                    <a:pt x="104" y="945"/>
                  </a:lnTo>
                  <a:lnTo>
                    <a:pt x="83" y="909"/>
                  </a:lnTo>
                  <a:lnTo>
                    <a:pt x="68" y="872"/>
                  </a:lnTo>
                  <a:lnTo>
                    <a:pt x="52" y="823"/>
                  </a:lnTo>
                  <a:lnTo>
                    <a:pt x="41" y="793"/>
                  </a:lnTo>
                  <a:lnTo>
                    <a:pt x="31" y="741"/>
                  </a:lnTo>
                  <a:lnTo>
                    <a:pt x="21" y="692"/>
                  </a:lnTo>
                  <a:lnTo>
                    <a:pt x="15" y="631"/>
                  </a:lnTo>
                  <a:lnTo>
                    <a:pt x="10" y="585"/>
                  </a:lnTo>
                  <a:lnTo>
                    <a:pt x="5" y="524"/>
                  </a:lnTo>
                  <a:lnTo>
                    <a:pt x="0" y="482"/>
                  </a:lnTo>
                  <a:lnTo>
                    <a:pt x="0" y="439"/>
                  </a:lnTo>
                  <a:lnTo>
                    <a:pt x="0" y="384"/>
                  </a:lnTo>
                  <a:lnTo>
                    <a:pt x="0" y="338"/>
                  </a:lnTo>
                  <a:lnTo>
                    <a:pt x="5" y="298"/>
                  </a:lnTo>
                  <a:lnTo>
                    <a:pt x="10" y="253"/>
                  </a:lnTo>
                  <a:lnTo>
                    <a:pt x="15" y="213"/>
                  </a:lnTo>
                  <a:lnTo>
                    <a:pt x="26" y="161"/>
                  </a:lnTo>
                  <a:lnTo>
                    <a:pt x="36" y="125"/>
                  </a:lnTo>
                  <a:lnTo>
                    <a:pt x="52" y="79"/>
                  </a:lnTo>
                  <a:lnTo>
                    <a:pt x="68" y="36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4646520" y="5046840"/>
              <a:ext cx="1825920" cy="808200"/>
              <a:chOff x="4646520" y="5046840"/>
              <a:chExt cx="1825920" cy="808200"/>
            </a:xfrm>
          </p:grpSpPr>
          <p:sp>
            <p:nvSpPr>
              <p:cNvPr id="65" name=""/>
              <p:cNvSpPr/>
              <p:nvPr/>
            </p:nvSpPr>
            <p:spPr>
              <a:xfrm>
                <a:off x="4646520" y="5046840"/>
                <a:ext cx="1825920" cy="552960"/>
              </a:xfrm>
              <a:custGeom>
                <a:avLst/>
                <a:gdLst/>
                <a:ahLst/>
                <a:rect l="0" t="0" r="r" b="b"/>
                <a:pathLst>
                  <a:path w="5072" h="1536">
                    <a:moveTo>
                      <a:pt x="36" y="21"/>
                    </a:moveTo>
                    <a:lnTo>
                      <a:pt x="0" y="0"/>
                    </a:lnTo>
                    <a:lnTo>
                      <a:pt x="89" y="12"/>
                    </a:lnTo>
                    <a:lnTo>
                      <a:pt x="5072" y="1445"/>
                    </a:lnTo>
                    <a:lnTo>
                      <a:pt x="5035" y="1536"/>
                    </a:lnTo>
                    <a:lnTo>
                      <a:pt x="3974" y="1212"/>
                    </a:lnTo>
                    <a:lnTo>
                      <a:pt x="3014" y="919"/>
                    </a:lnTo>
                    <a:lnTo>
                      <a:pt x="2099" y="646"/>
                    </a:lnTo>
                    <a:lnTo>
                      <a:pt x="1312" y="401"/>
                    </a:lnTo>
                    <a:lnTo>
                      <a:pt x="36" y="21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983200" y="5495760"/>
                <a:ext cx="464040" cy="124200"/>
              </a:xfrm>
              <a:custGeom>
                <a:avLst/>
                <a:gdLst/>
                <a:ahLst/>
                <a:rect l="0" t="0" r="r" b="b"/>
                <a:pathLst>
                  <a:path w="1289" h="345">
                    <a:moveTo>
                      <a:pt x="0" y="0"/>
                    </a:moveTo>
                    <a:lnTo>
                      <a:pt x="588" y="145"/>
                    </a:lnTo>
                    <a:lnTo>
                      <a:pt x="757" y="188"/>
                    </a:lnTo>
                    <a:lnTo>
                      <a:pt x="925" y="239"/>
                    </a:lnTo>
                    <a:lnTo>
                      <a:pt x="1289" y="345"/>
                    </a:lnTo>
                    <a:lnTo>
                      <a:pt x="833" y="225"/>
                    </a:lnTo>
                    <a:lnTo>
                      <a:pt x="522" y="1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178680" y="5632560"/>
                <a:ext cx="267120" cy="68760"/>
              </a:xfrm>
              <a:custGeom>
                <a:avLst/>
                <a:gdLst/>
                <a:ahLst/>
                <a:rect l="0" t="0" r="r" b="b"/>
                <a:pathLst>
                  <a:path w="742" h="191">
                    <a:moveTo>
                      <a:pt x="0" y="0"/>
                    </a:moveTo>
                    <a:lnTo>
                      <a:pt x="346" y="75"/>
                    </a:lnTo>
                    <a:lnTo>
                      <a:pt x="491" y="113"/>
                    </a:lnTo>
                    <a:lnTo>
                      <a:pt x="742" y="180"/>
                    </a:lnTo>
                    <a:lnTo>
                      <a:pt x="742" y="191"/>
                    </a:lnTo>
                    <a:lnTo>
                      <a:pt x="421" y="1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737320" y="5584680"/>
                <a:ext cx="716400" cy="206640"/>
              </a:xfrm>
              <a:custGeom>
                <a:avLst/>
                <a:gdLst/>
                <a:ahLst/>
                <a:rect l="0" t="0" r="r" b="b"/>
                <a:pathLst>
                  <a:path w="1990" h="574">
                    <a:moveTo>
                      <a:pt x="0" y="0"/>
                    </a:moveTo>
                    <a:lnTo>
                      <a:pt x="995" y="273"/>
                    </a:lnTo>
                    <a:lnTo>
                      <a:pt x="1545" y="424"/>
                    </a:lnTo>
                    <a:lnTo>
                      <a:pt x="1980" y="547"/>
                    </a:lnTo>
                    <a:lnTo>
                      <a:pt x="1990" y="574"/>
                    </a:lnTo>
                    <a:lnTo>
                      <a:pt x="1140" y="321"/>
                    </a:lnTo>
                    <a:lnTo>
                      <a:pt x="403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6222960" y="5667480"/>
                <a:ext cx="222480" cy="60840"/>
              </a:xfrm>
              <a:custGeom>
                <a:avLst/>
                <a:gdLst/>
                <a:ahLst/>
                <a:rect l="0" t="0" r="r" b="b"/>
                <a:pathLst>
                  <a:path w="618" h="169">
                    <a:moveTo>
                      <a:pt x="0" y="0"/>
                    </a:moveTo>
                    <a:lnTo>
                      <a:pt x="618" y="148"/>
                    </a:lnTo>
                    <a:lnTo>
                      <a:pt x="618" y="169"/>
                    </a:lnTo>
                    <a:lnTo>
                      <a:pt x="386" y="10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242040" y="5784840"/>
                <a:ext cx="228960" cy="70200"/>
              </a:xfrm>
              <a:custGeom>
                <a:avLst/>
                <a:gdLst/>
                <a:ahLst/>
                <a:rect l="0" t="0" r="r" b="b"/>
                <a:pathLst>
                  <a:path w="636" h="195">
                    <a:moveTo>
                      <a:pt x="0" y="0"/>
                    </a:moveTo>
                    <a:lnTo>
                      <a:pt x="502" y="139"/>
                    </a:lnTo>
                    <a:lnTo>
                      <a:pt x="631" y="181"/>
                    </a:lnTo>
                    <a:lnTo>
                      <a:pt x="636" y="195"/>
                    </a:lnTo>
                    <a:lnTo>
                      <a:pt x="457" y="142"/>
                    </a:lnTo>
                    <a:lnTo>
                      <a:pt x="99" y="3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6599160" y="4933800"/>
              <a:ext cx="1974960" cy="887760"/>
              <a:chOff x="6599160" y="4933800"/>
              <a:chExt cx="1974960" cy="88776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7864560" y="5168880"/>
                <a:ext cx="173160" cy="103320"/>
                <a:chOff x="7864560" y="5168880"/>
                <a:chExt cx="173160" cy="1033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866000" y="5168880"/>
                  <a:ext cx="171720" cy="103320"/>
                </a:xfrm>
                <a:custGeom>
                  <a:avLst/>
                  <a:gdLst/>
                  <a:ahLst/>
                  <a:rect l="0" t="0" r="r" b="b"/>
                  <a:pathLst>
                    <a:path w="477" h="287">
                      <a:moveTo>
                        <a:pt x="251" y="216"/>
                      </a:moveTo>
                      <a:lnTo>
                        <a:pt x="477" y="129"/>
                      </a:lnTo>
                      <a:lnTo>
                        <a:pt x="477" y="129"/>
                      </a:lnTo>
                      <a:cubicBezTo>
                        <a:pt x="473" y="121"/>
                        <a:pt x="468" y="112"/>
                        <a:pt x="462" y="104"/>
                      </a:cubicBezTo>
                      <a:cubicBezTo>
                        <a:pt x="440" y="72"/>
                        <a:pt x="409" y="46"/>
                        <a:pt x="371" y="28"/>
                      </a:cubicBezTo>
                      <a:cubicBezTo>
                        <a:pt x="334" y="9"/>
                        <a:pt x="291" y="0"/>
                        <a:pt x="248" y="0"/>
                      </a:cubicBezTo>
                      <a:cubicBezTo>
                        <a:pt x="204" y="0"/>
                        <a:pt x="161" y="9"/>
                        <a:pt x="124" y="28"/>
                      </a:cubicBezTo>
                      <a:cubicBezTo>
                        <a:pt x="86" y="46"/>
                        <a:pt x="55" y="72"/>
                        <a:pt x="33" y="104"/>
                      </a:cubicBezTo>
                      <a:cubicBezTo>
                        <a:pt x="11" y="136"/>
                        <a:pt x="0" y="172"/>
                        <a:pt x="0" y="208"/>
                      </a:cubicBezTo>
                      <a:cubicBezTo>
                        <a:pt x="0" y="235"/>
                        <a:pt x="6" y="262"/>
                        <a:pt x="18" y="287"/>
                      </a:cubicBezTo>
                      <a:lnTo>
                        <a:pt x="251" y="21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864560" y="5197320"/>
                  <a:ext cx="168120" cy="71280"/>
                </a:xfrm>
                <a:custGeom>
                  <a:avLst/>
                  <a:gdLst/>
                  <a:ahLst/>
                  <a:rect l="0" t="0" r="r" b="b"/>
                  <a:pathLst>
                    <a:path w="467" h="198">
                      <a:moveTo>
                        <a:pt x="272" y="124"/>
                      </a:moveTo>
                      <a:lnTo>
                        <a:pt x="467" y="42"/>
                      </a:lnTo>
                      <a:lnTo>
                        <a:pt x="467" y="42"/>
                      </a:lnTo>
                      <a:cubicBezTo>
                        <a:pt x="447" y="32"/>
                        <a:pt x="424" y="23"/>
                        <a:pt x="397" y="16"/>
                      </a:cubicBezTo>
                      <a:cubicBezTo>
                        <a:pt x="357" y="5"/>
                        <a:pt x="312" y="0"/>
                        <a:pt x="265" y="0"/>
                      </a:cubicBezTo>
                      <a:cubicBezTo>
                        <a:pt x="219" y="0"/>
                        <a:pt x="173" y="5"/>
                        <a:pt x="133" y="16"/>
                      </a:cubicBezTo>
                      <a:cubicBezTo>
                        <a:pt x="92" y="27"/>
                        <a:pt x="59" y="42"/>
                        <a:pt x="36" y="60"/>
                      </a:cubicBezTo>
                      <a:cubicBezTo>
                        <a:pt x="13" y="78"/>
                        <a:pt x="0" y="99"/>
                        <a:pt x="0" y="120"/>
                      </a:cubicBezTo>
                      <a:cubicBezTo>
                        <a:pt x="0" y="141"/>
                        <a:pt x="13" y="162"/>
                        <a:pt x="36" y="180"/>
                      </a:cubicBezTo>
                      <a:cubicBezTo>
                        <a:pt x="44" y="187"/>
                        <a:pt x="53" y="193"/>
                        <a:pt x="63" y="198"/>
                      </a:cubicBezTo>
                      <a:lnTo>
                        <a:pt x="272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7683480" y="5249880"/>
                <a:ext cx="172800" cy="102960"/>
                <a:chOff x="7683480" y="5249880"/>
                <a:chExt cx="172800" cy="1029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7684920" y="5249880"/>
                  <a:ext cx="171360" cy="102960"/>
                </a:xfrm>
                <a:custGeom>
                  <a:avLst/>
                  <a:gdLst/>
                  <a:ahLst/>
                  <a:rect l="0" t="0" r="r" b="b"/>
                  <a:pathLst>
                    <a:path w="476" h="286">
                      <a:moveTo>
                        <a:pt x="251" y="214"/>
                      </a:moveTo>
                      <a:lnTo>
                        <a:pt x="476" y="127"/>
                      </a:lnTo>
                      <a:lnTo>
                        <a:pt x="476" y="127"/>
                      </a:lnTo>
                      <a:cubicBezTo>
                        <a:pt x="472" y="119"/>
                        <a:pt x="467" y="111"/>
                        <a:pt x="462" y="103"/>
                      </a:cubicBezTo>
                      <a:cubicBezTo>
                        <a:pt x="440" y="72"/>
                        <a:pt x="409" y="46"/>
                        <a:pt x="371" y="28"/>
                      </a:cubicBezTo>
                      <a:cubicBezTo>
                        <a:pt x="334" y="10"/>
                        <a:pt x="291" y="0"/>
                        <a:pt x="248" y="0"/>
                      </a:cubicBezTo>
                      <a:cubicBezTo>
                        <a:pt x="204" y="0"/>
                        <a:pt x="161" y="10"/>
                        <a:pt x="124" y="28"/>
                      </a:cubicBezTo>
                      <a:cubicBezTo>
                        <a:pt x="86" y="46"/>
                        <a:pt x="55" y="72"/>
                        <a:pt x="33" y="103"/>
                      </a:cubicBezTo>
                      <a:cubicBezTo>
                        <a:pt x="12" y="135"/>
                        <a:pt x="0" y="170"/>
                        <a:pt x="0" y="207"/>
                      </a:cubicBezTo>
                      <a:cubicBezTo>
                        <a:pt x="0" y="234"/>
                        <a:pt x="7" y="261"/>
                        <a:pt x="19" y="286"/>
                      </a:cubicBezTo>
                      <a:lnTo>
                        <a:pt x="251" y="2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7683480" y="5276880"/>
                  <a:ext cx="168840" cy="70560"/>
                </a:xfrm>
                <a:custGeom>
                  <a:avLst/>
                  <a:gdLst/>
                  <a:ahLst/>
                  <a:rect l="0" t="0" r="r" b="b"/>
                  <a:pathLst>
                    <a:path w="469" h="196">
                      <a:moveTo>
                        <a:pt x="272" y="124"/>
                      </a:moveTo>
                      <a:lnTo>
                        <a:pt x="469" y="43"/>
                      </a:lnTo>
                      <a:lnTo>
                        <a:pt x="469" y="43"/>
                      </a:lnTo>
                      <a:cubicBezTo>
                        <a:pt x="449" y="32"/>
                        <a:pt x="425" y="23"/>
                        <a:pt x="397" y="16"/>
                      </a:cubicBezTo>
                      <a:cubicBezTo>
                        <a:pt x="357" y="5"/>
                        <a:pt x="312" y="0"/>
                        <a:pt x="265" y="0"/>
                      </a:cubicBezTo>
                      <a:cubicBezTo>
                        <a:pt x="219" y="0"/>
                        <a:pt x="173" y="5"/>
                        <a:pt x="133" y="16"/>
                      </a:cubicBezTo>
                      <a:cubicBezTo>
                        <a:pt x="92" y="26"/>
                        <a:pt x="59" y="42"/>
                        <a:pt x="36" y="60"/>
                      </a:cubicBezTo>
                      <a:cubicBezTo>
                        <a:pt x="12" y="78"/>
                        <a:pt x="0" y="99"/>
                        <a:pt x="0" y="120"/>
                      </a:cubicBezTo>
                      <a:cubicBezTo>
                        <a:pt x="0" y="141"/>
                        <a:pt x="12" y="161"/>
                        <a:pt x="36" y="179"/>
                      </a:cubicBezTo>
                      <a:cubicBezTo>
                        <a:pt x="43" y="185"/>
                        <a:pt x="52" y="191"/>
                        <a:pt x="61" y="196"/>
                      </a:cubicBezTo>
                      <a:lnTo>
                        <a:pt x="272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7500960" y="5326200"/>
                <a:ext cx="172800" cy="102960"/>
                <a:chOff x="7500960" y="5326200"/>
                <a:chExt cx="172800" cy="10296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7502400" y="5326200"/>
                  <a:ext cx="171360" cy="102960"/>
                </a:xfrm>
                <a:custGeom>
                  <a:avLst/>
                  <a:gdLst/>
                  <a:ahLst/>
                  <a:rect l="0" t="0" r="r" b="b"/>
                  <a:pathLst>
                    <a:path w="476" h="286">
                      <a:moveTo>
                        <a:pt x="251" y="214"/>
                      </a:moveTo>
                      <a:lnTo>
                        <a:pt x="476" y="127"/>
                      </a:lnTo>
                      <a:lnTo>
                        <a:pt x="476" y="127"/>
                      </a:lnTo>
                      <a:cubicBezTo>
                        <a:pt x="472" y="119"/>
                        <a:pt x="467" y="111"/>
                        <a:pt x="462" y="103"/>
                      </a:cubicBezTo>
                      <a:cubicBezTo>
                        <a:pt x="440" y="72"/>
                        <a:pt x="409" y="46"/>
                        <a:pt x="371" y="28"/>
                      </a:cubicBezTo>
                      <a:cubicBezTo>
                        <a:pt x="334" y="10"/>
                        <a:pt x="291" y="0"/>
                        <a:pt x="248" y="0"/>
                      </a:cubicBezTo>
                      <a:cubicBezTo>
                        <a:pt x="204" y="0"/>
                        <a:pt x="161" y="10"/>
                        <a:pt x="124" y="28"/>
                      </a:cubicBezTo>
                      <a:cubicBezTo>
                        <a:pt x="86" y="46"/>
                        <a:pt x="55" y="72"/>
                        <a:pt x="33" y="103"/>
                      </a:cubicBezTo>
                      <a:cubicBezTo>
                        <a:pt x="12" y="135"/>
                        <a:pt x="0" y="170"/>
                        <a:pt x="0" y="207"/>
                      </a:cubicBezTo>
                      <a:cubicBezTo>
                        <a:pt x="0" y="234"/>
                        <a:pt x="7" y="261"/>
                        <a:pt x="19" y="286"/>
                      </a:cubicBezTo>
                      <a:lnTo>
                        <a:pt x="251" y="2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7500960" y="5353200"/>
                  <a:ext cx="168840" cy="70560"/>
                </a:xfrm>
                <a:custGeom>
                  <a:avLst/>
                  <a:gdLst/>
                  <a:ahLst/>
                  <a:rect l="0" t="0" r="r" b="b"/>
                  <a:pathLst>
                    <a:path w="469" h="196">
                      <a:moveTo>
                        <a:pt x="272" y="124"/>
                      </a:moveTo>
                      <a:lnTo>
                        <a:pt x="469" y="43"/>
                      </a:lnTo>
                      <a:lnTo>
                        <a:pt x="469" y="43"/>
                      </a:lnTo>
                      <a:cubicBezTo>
                        <a:pt x="449" y="32"/>
                        <a:pt x="425" y="23"/>
                        <a:pt x="397" y="16"/>
                      </a:cubicBezTo>
                      <a:cubicBezTo>
                        <a:pt x="357" y="5"/>
                        <a:pt x="312" y="0"/>
                        <a:pt x="265" y="0"/>
                      </a:cubicBezTo>
                      <a:cubicBezTo>
                        <a:pt x="219" y="0"/>
                        <a:pt x="173" y="5"/>
                        <a:pt x="133" y="16"/>
                      </a:cubicBezTo>
                      <a:cubicBezTo>
                        <a:pt x="92" y="26"/>
                        <a:pt x="59" y="42"/>
                        <a:pt x="36" y="60"/>
                      </a:cubicBezTo>
                      <a:cubicBezTo>
                        <a:pt x="12" y="78"/>
                        <a:pt x="0" y="99"/>
                        <a:pt x="0" y="120"/>
                      </a:cubicBezTo>
                      <a:cubicBezTo>
                        <a:pt x="0" y="141"/>
                        <a:pt x="12" y="161"/>
                        <a:pt x="36" y="179"/>
                      </a:cubicBezTo>
                      <a:cubicBezTo>
                        <a:pt x="43" y="185"/>
                        <a:pt x="52" y="191"/>
                        <a:pt x="61" y="196"/>
                      </a:cubicBezTo>
                      <a:lnTo>
                        <a:pt x="272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7316640" y="5403960"/>
                <a:ext cx="188640" cy="101520"/>
                <a:chOff x="7316640" y="5403960"/>
                <a:chExt cx="188640" cy="10152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7318440" y="5403960"/>
                  <a:ext cx="186840" cy="101520"/>
                </a:xfrm>
                <a:custGeom>
                  <a:avLst/>
                  <a:gdLst/>
                  <a:ahLst/>
                  <a:rect l="0" t="0" r="r" b="b"/>
                  <a:pathLst>
                    <a:path w="519" h="282">
                      <a:moveTo>
                        <a:pt x="274" y="211"/>
                      </a:moveTo>
                      <a:lnTo>
                        <a:pt x="519" y="124"/>
                      </a:lnTo>
                      <a:lnTo>
                        <a:pt x="519" y="124"/>
                      </a:lnTo>
                      <a:cubicBezTo>
                        <a:pt x="515" y="117"/>
                        <a:pt x="510" y="109"/>
                        <a:pt x="504" y="101"/>
                      </a:cubicBezTo>
                      <a:cubicBezTo>
                        <a:pt x="480" y="71"/>
                        <a:pt x="446" y="45"/>
                        <a:pt x="405" y="27"/>
                      </a:cubicBezTo>
                      <a:cubicBezTo>
                        <a:pt x="364" y="9"/>
                        <a:pt x="317" y="0"/>
                        <a:pt x="270" y="0"/>
                      </a:cubicBezTo>
                      <a:cubicBezTo>
                        <a:pt x="223" y="0"/>
                        <a:pt x="176" y="9"/>
                        <a:pt x="135" y="27"/>
                      </a:cubicBezTo>
                      <a:cubicBezTo>
                        <a:pt x="94" y="45"/>
                        <a:pt x="60" y="71"/>
                        <a:pt x="36" y="101"/>
                      </a:cubicBezTo>
                      <a:cubicBezTo>
                        <a:pt x="12" y="132"/>
                        <a:pt x="0" y="167"/>
                        <a:pt x="0" y="203"/>
                      </a:cubicBezTo>
                      <a:cubicBezTo>
                        <a:pt x="0" y="230"/>
                        <a:pt x="7" y="257"/>
                        <a:pt x="21" y="282"/>
                      </a:cubicBezTo>
                      <a:lnTo>
                        <a:pt x="274" y="211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316640" y="5432400"/>
                  <a:ext cx="186120" cy="69480"/>
                </a:xfrm>
                <a:custGeom>
                  <a:avLst/>
                  <a:gdLst/>
                  <a:ahLst/>
                  <a:rect l="0" t="0" r="r" b="b"/>
                  <a:pathLst>
                    <a:path w="517" h="193">
                      <a:moveTo>
                        <a:pt x="301" y="121"/>
                      </a:moveTo>
                      <a:lnTo>
                        <a:pt x="517" y="42"/>
                      </a:lnTo>
                      <a:lnTo>
                        <a:pt x="517" y="42"/>
                      </a:lnTo>
                      <a:cubicBezTo>
                        <a:pt x="495" y="32"/>
                        <a:pt x="469" y="23"/>
                        <a:pt x="439" y="16"/>
                      </a:cubicBezTo>
                      <a:cubicBezTo>
                        <a:pt x="394" y="6"/>
                        <a:pt x="344" y="0"/>
                        <a:pt x="293" y="0"/>
                      </a:cubicBezTo>
                      <a:cubicBezTo>
                        <a:pt x="241" y="0"/>
                        <a:pt x="191" y="6"/>
                        <a:pt x="146" y="16"/>
                      </a:cubicBezTo>
                      <a:cubicBezTo>
                        <a:pt x="102" y="26"/>
                        <a:pt x="65" y="41"/>
                        <a:pt x="39" y="59"/>
                      </a:cubicBezTo>
                      <a:cubicBezTo>
                        <a:pt x="14" y="77"/>
                        <a:pt x="0" y="97"/>
                        <a:pt x="0" y="118"/>
                      </a:cubicBezTo>
                      <a:cubicBezTo>
                        <a:pt x="0" y="138"/>
                        <a:pt x="14" y="159"/>
                        <a:pt x="39" y="176"/>
                      </a:cubicBezTo>
                      <a:cubicBezTo>
                        <a:pt x="48" y="182"/>
                        <a:pt x="57" y="188"/>
                        <a:pt x="68" y="193"/>
                      </a:cubicBezTo>
                      <a:lnTo>
                        <a:pt x="30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7142040" y="5483160"/>
                <a:ext cx="189720" cy="101160"/>
                <a:chOff x="7142040" y="5483160"/>
                <a:chExt cx="189720" cy="10116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7145280" y="5483160"/>
                  <a:ext cx="186480" cy="101160"/>
                </a:xfrm>
                <a:custGeom>
                  <a:avLst/>
                  <a:gdLst/>
                  <a:ahLst/>
                  <a:rect l="0" t="0" r="r" b="b"/>
                  <a:pathLst>
                    <a:path w="518" h="281">
                      <a:moveTo>
                        <a:pt x="273" y="210"/>
                      </a:moveTo>
                      <a:lnTo>
                        <a:pt x="518" y="125"/>
                      </a:lnTo>
                      <a:lnTo>
                        <a:pt x="518" y="125"/>
                      </a:lnTo>
                      <a:cubicBezTo>
                        <a:pt x="513" y="117"/>
                        <a:pt x="508" y="109"/>
                        <a:pt x="502" y="101"/>
                      </a:cubicBezTo>
                      <a:cubicBezTo>
                        <a:pt x="479" y="71"/>
                        <a:pt x="445" y="45"/>
                        <a:pt x="404" y="27"/>
                      </a:cubicBezTo>
                      <a:cubicBezTo>
                        <a:pt x="363" y="9"/>
                        <a:pt x="316" y="0"/>
                        <a:pt x="269" y="0"/>
                      </a:cubicBezTo>
                      <a:cubicBezTo>
                        <a:pt x="222" y="0"/>
                        <a:pt x="175" y="9"/>
                        <a:pt x="134" y="27"/>
                      </a:cubicBezTo>
                      <a:cubicBezTo>
                        <a:pt x="93" y="45"/>
                        <a:pt x="59" y="71"/>
                        <a:pt x="36" y="101"/>
                      </a:cubicBezTo>
                      <a:cubicBezTo>
                        <a:pt x="12" y="132"/>
                        <a:pt x="0" y="168"/>
                        <a:pt x="0" y="203"/>
                      </a:cubicBezTo>
                      <a:cubicBezTo>
                        <a:pt x="0" y="230"/>
                        <a:pt x="7" y="256"/>
                        <a:pt x="20" y="281"/>
                      </a:cubicBezTo>
                      <a:lnTo>
                        <a:pt x="273" y="2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7142040" y="5510160"/>
                  <a:ext cx="186120" cy="69480"/>
                </a:xfrm>
                <a:custGeom>
                  <a:avLst/>
                  <a:gdLst/>
                  <a:ahLst/>
                  <a:rect l="0" t="0" r="r" b="b"/>
                  <a:pathLst>
                    <a:path w="517" h="193">
                      <a:moveTo>
                        <a:pt x="301" y="121"/>
                      </a:moveTo>
                      <a:lnTo>
                        <a:pt x="517" y="42"/>
                      </a:lnTo>
                      <a:lnTo>
                        <a:pt x="517" y="42"/>
                      </a:lnTo>
                      <a:cubicBezTo>
                        <a:pt x="495" y="32"/>
                        <a:pt x="469" y="23"/>
                        <a:pt x="439" y="16"/>
                      </a:cubicBezTo>
                      <a:cubicBezTo>
                        <a:pt x="394" y="6"/>
                        <a:pt x="344" y="0"/>
                        <a:pt x="293" y="0"/>
                      </a:cubicBezTo>
                      <a:cubicBezTo>
                        <a:pt x="241" y="0"/>
                        <a:pt x="191" y="6"/>
                        <a:pt x="146" y="16"/>
                      </a:cubicBezTo>
                      <a:cubicBezTo>
                        <a:pt x="102" y="26"/>
                        <a:pt x="65" y="41"/>
                        <a:pt x="39" y="59"/>
                      </a:cubicBezTo>
                      <a:cubicBezTo>
                        <a:pt x="14" y="77"/>
                        <a:pt x="0" y="97"/>
                        <a:pt x="0" y="118"/>
                      </a:cubicBezTo>
                      <a:cubicBezTo>
                        <a:pt x="0" y="138"/>
                        <a:pt x="14" y="159"/>
                        <a:pt x="39" y="176"/>
                      </a:cubicBezTo>
                      <a:cubicBezTo>
                        <a:pt x="48" y="182"/>
                        <a:pt x="57" y="188"/>
                        <a:pt x="68" y="193"/>
                      </a:cubicBezTo>
                      <a:lnTo>
                        <a:pt x="301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6958080" y="5559480"/>
                <a:ext cx="197640" cy="105120"/>
                <a:chOff x="6958080" y="5559480"/>
                <a:chExt cx="197640" cy="10512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6959520" y="5559480"/>
                  <a:ext cx="196200" cy="105120"/>
                </a:xfrm>
                <a:custGeom>
                  <a:avLst/>
                  <a:gdLst/>
                  <a:ahLst/>
                  <a:rect l="0" t="0" r="r" b="b"/>
                  <a:pathLst>
                    <a:path w="545" h="292">
                      <a:moveTo>
                        <a:pt x="287" y="218"/>
                      </a:moveTo>
                      <a:lnTo>
                        <a:pt x="545" y="127"/>
                      </a:lnTo>
                      <a:lnTo>
                        <a:pt x="545" y="127"/>
                      </a:lnTo>
                      <a:cubicBezTo>
                        <a:pt x="541" y="120"/>
                        <a:pt x="537" y="114"/>
                        <a:pt x="532" y="108"/>
                      </a:cubicBezTo>
                      <a:cubicBezTo>
                        <a:pt x="507" y="75"/>
                        <a:pt x="471" y="48"/>
                        <a:pt x="428" y="29"/>
                      </a:cubicBezTo>
                      <a:cubicBezTo>
                        <a:pt x="384" y="10"/>
                        <a:pt x="335" y="0"/>
                        <a:pt x="285" y="0"/>
                      </a:cubicBezTo>
                      <a:cubicBezTo>
                        <a:pt x="235" y="0"/>
                        <a:pt x="186" y="10"/>
                        <a:pt x="142" y="29"/>
                      </a:cubicBezTo>
                      <a:cubicBezTo>
                        <a:pt x="99" y="48"/>
                        <a:pt x="63" y="75"/>
                        <a:pt x="38" y="108"/>
                      </a:cubicBezTo>
                      <a:cubicBezTo>
                        <a:pt x="13" y="140"/>
                        <a:pt x="0" y="177"/>
                        <a:pt x="0" y="215"/>
                      </a:cubicBezTo>
                      <a:cubicBezTo>
                        <a:pt x="0" y="241"/>
                        <a:pt x="6" y="267"/>
                        <a:pt x="19" y="292"/>
                      </a:cubicBezTo>
                      <a:lnTo>
                        <a:pt x="287" y="21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6958080" y="5587920"/>
                  <a:ext cx="195480" cy="75240"/>
                </a:xfrm>
                <a:custGeom>
                  <a:avLst/>
                  <a:gdLst/>
                  <a:ahLst/>
                  <a:rect l="0" t="0" r="r" b="b"/>
                  <a:pathLst>
                    <a:path w="543" h="209">
                      <a:moveTo>
                        <a:pt x="316" y="133"/>
                      </a:moveTo>
                      <a:lnTo>
                        <a:pt x="543" y="47"/>
                      </a:lnTo>
                      <a:lnTo>
                        <a:pt x="543" y="47"/>
                      </a:lnTo>
                      <a:cubicBezTo>
                        <a:pt x="520" y="35"/>
                        <a:pt x="491" y="25"/>
                        <a:pt x="459" y="17"/>
                      </a:cubicBezTo>
                      <a:cubicBezTo>
                        <a:pt x="412" y="6"/>
                        <a:pt x="360" y="0"/>
                        <a:pt x="306" y="0"/>
                      </a:cubicBezTo>
                      <a:cubicBezTo>
                        <a:pt x="252" y="0"/>
                        <a:pt x="200" y="6"/>
                        <a:pt x="153" y="17"/>
                      </a:cubicBezTo>
                      <a:cubicBezTo>
                        <a:pt x="107" y="28"/>
                        <a:pt x="68" y="45"/>
                        <a:pt x="41" y="64"/>
                      </a:cubicBezTo>
                      <a:cubicBezTo>
                        <a:pt x="15" y="84"/>
                        <a:pt x="0" y="106"/>
                        <a:pt x="0" y="128"/>
                      </a:cubicBezTo>
                      <a:cubicBezTo>
                        <a:pt x="0" y="151"/>
                        <a:pt x="15" y="173"/>
                        <a:pt x="41" y="192"/>
                      </a:cubicBezTo>
                      <a:cubicBezTo>
                        <a:pt x="50" y="198"/>
                        <a:pt x="59" y="204"/>
                        <a:pt x="69" y="209"/>
                      </a:cubicBezTo>
                      <a:lnTo>
                        <a:pt x="316" y="13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6783480" y="5634000"/>
                <a:ext cx="192240" cy="115560"/>
                <a:chOff x="6783480" y="5634000"/>
                <a:chExt cx="192240" cy="11556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6784920" y="5634000"/>
                  <a:ext cx="190800" cy="115560"/>
                </a:xfrm>
                <a:custGeom>
                  <a:avLst/>
                  <a:gdLst/>
                  <a:ahLst/>
                  <a:rect l="0" t="0" r="r" b="b"/>
                  <a:pathLst>
                    <a:path w="530" h="321">
                      <a:moveTo>
                        <a:pt x="282" y="244"/>
                      </a:moveTo>
                      <a:lnTo>
                        <a:pt x="530" y="142"/>
                      </a:lnTo>
                      <a:lnTo>
                        <a:pt x="530" y="142"/>
                      </a:lnTo>
                      <a:cubicBezTo>
                        <a:pt x="525" y="133"/>
                        <a:pt x="520" y="124"/>
                        <a:pt x="514" y="116"/>
                      </a:cubicBezTo>
                      <a:cubicBezTo>
                        <a:pt x="490" y="80"/>
                        <a:pt x="455" y="51"/>
                        <a:pt x="413" y="31"/>
                      </a:cubicBezTo>
                      <a:cubicBezTo>
                        <a:pt x="371" y="10"/>
                        <a:pt x="324" y="0"/>
                        <a:pt x="276" y="0"/>
                      </a:cubicBezTo>
                      <a:cubicBezTo>
                        <a:pt x="227" y="0"/>
                        <a:pt x="180" y="10"/>
                        <a:pt x="138" y="31"/>
                      </a:cubicBezTo>
                      <a:cubicBezTo>
                        <a:pt x="96" y="51"/>
                        <a:pt x="61" y="80"/>
                        <a:pt x="37" y="116"/>
                      </a:cubicBezTo>
                      <a:cubicBezTo>
                        <a:pt x="13" y="151"/>
                        <a:pt x="0" y="191"/>
                        <a:pt x="0" y="232"/>
                      </a:cubicBezTo>
                      <a:cubicBezTo>
                        <a:pt x="0" y="262"/>
                        <a:pt x="7" y="293"/>
                        <a:pt x="21" y="321"/>
                      </a:cubicBezTo>
                      <a:lnTo>
                        <a:pt x="282" y="24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6783480" y="5664240"/>
                  <a:ext cx="189000" cy="80640"/>
                </a:xfrm>
                <a:custGeom>
                  <a:avLst/>
                  <a:gdLst/>
                  <a:ahLst/>
                  <a:rect l="0" t="0" r="r" b="b"/>
                  <a:pathLst>
                    <a:path w="525" h="224">
                      <a:moveTo>
                        <a:pt x="306" y="142"/>
                      </a:moveTo>
                      <a:lnTo>
                        <a:pt x="525" y="49"/>
                      </a:lnTo>
                      <a:lnTo>
                        <a:pt x="525" y="49"/>
                      </a:lnTo>
                      <a:cubicBezTo>
                        <a:pt x="503" y="37"/>
                        <a:pt x="475" y="26"/>
                        <a:pt x="445" y="18"/>
                      </a:cubicBezTo>
                      <a:cubicBezTo>
                        <a:pt x="400" y="6"/>
                        <a:pt x="349" y="0"/>
                        <a:pt x="297" y="0"/>
                      </a:cubicBezTo>
                      <a:cubicBezTo>
                        <a:pt x="245" y="0"/>
                        <a:pt x="193" y="6"/>
                        <a:pt x="148" y="18"/>
                      </a:cubicBezTo>
                      <a:cubicBezTo>
                        <a:pt x="103" y="30"/>
                        <a:pt x="66" y="47"/>
                        <a:pt x="40" y="68"/>
                      </a:cubicBezTo>
                      <a:cubicBezTo>
                        <a:pt x="14" y="89"/>
                        <a:pt x="0" y="113"/>
                        <a:pt x="0" y="137"/>
                      </a:cubicBezTo>
                      <a:cubicBezTo>
                        <a:pt x="0" y="161"/>
                        <a:pt x="14" y="184"/>
                        <a:pt x="40" y="205"/>
                      </a:cubicBezTo>
                      <a:cubicBezTo>
                        <a:pt x="48" y="212"/>
                        <a:pt x="58" y="218"/>
                        <a:pt x="68" y="224"/>
                      </a:cubicBezTo>
                      <a:lnTo>
                        <a:pt x="306" y="1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35640" bIns="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6599160" y="5710320"/>
                <a:ext cx="189720" cy="111240"/>
                <a:chOff x="6599160" y="5710320"/>
                <a:chExt cx="189720" cy="11124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6602400" y="5710320"/>
                  <a:ext cx="186480" cy="111240"/>
                </a:xfrm>
                <a:custGeom>
                  <a:avLst/>
                  <a:gdLst/>
                  <a:ahLst/>
                  <a:rect l="0" t="0" r="r" b="b"/>
                  <a:pathLst>
                    <a:path w="518" h="309">
                      <a:moveTo>
                        <a:pt x="274" y="234"/>
                      </a:moveTo>
                      <a:lnTo>
                        <a:pt x="518" y="138"/>
                      </a:lnTo>
                      <a:lnTo>
                        <a:pt x="518" y="138"/>
                      </a:lnTo>
                      <a:cubicBezTo>
                        <a:pt x="513" y="129"/>
                        <a:pt x="508" y="121"/>
                        <a:pt x="502" y="112"/>
                      </a:cubicBezTo>
                      <a:cubicBezTo>
                        <a:pt x="479" y="78"/>
                        <a:pt x="445" y="50"/>
                        <a:pt x="404" y="30"/>
                      </a:cubicBezTo>
                      <a:cubicBezTo>
                        <a:pt x="363" y="11"/>
                        <a:pt x="316" y="0"/>
                        <a:pt x="269" y="0"/>
                      </a:cubicBezTo>
                      <a:cubicBezTo>
                        <a:pt x="222" y="0"/>
                        <a:pt x="175" y="11"/>
                        <a:pt x="134" y="30"/>
                      </a:cubicBezTo>
                      <a:cubicBezTo>
                        <a:pt x="93" y="50"/>
                        <a:pt x="59" y="78"/>
                        <a:pt x="36" y="112"/>
                      </a:cubicBezTo>
                      <a:cubicBezTo>
                        <a:pt x="12" y="146"/>
                        <a:pt x="0" y="184"/>
                        <a:pt x="0" y="224"/>
                      </a:cubicBezTo>
                      <a:cubicBezTo>
                        <a:pt x="0" y="253"/>
                        <a:pt x="7" y="282"/>
                        <a:pt x="20" y="309"/>
                      </a:cubicBezTo>
                      <a:lnTo>
                        <a:pt x="274" y="23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6599160" y="5740560"/>
                  <a:ext cx="181800" cy="74520"/>
                </a:xfrm>
                <a:custGeom>
                  <a:avLst/>
                  <a:gdLst/>
                  <a:ahLst/>
                  <a:rect l="0" t="0" r="r" b="b"/>
                  <a:pathLst>
                    <a:path w="505" h="207">
                      <a:moveTo>
                        <a:pt x="292" y="131"/>
                      </a:moveTo>
                      <a:lnTo>
                        <a:pt x="505" y="41"/>
                      </a:lnTo>
                      <a:lnTo>
                        <a:pt x="505" y="41"/>
                      </a:lnTo>
                      <a:cubicBezTo>
                        <a:pt x="485" y="32"/>
                        <a:pt x="462" y="24"/>
                        <a:pt x="437" y="17"/>
                      </a:cubicBezTo>
                      <a:cubicBezTo>
                        <a:pt x="393" y="6"/>
                        <a:pt x="343" y="0"/>
                        <a:pt x="292" y="0"/>
                      </a:cubicBezTo>
                      <a:cubicBezTo>
                        <a:pt x="240" y="0"/>
                        <a:pt x="190" y="6"/>
                        <a:pt x="146" y="17"/>
                      </a:cubicBezTo>
                      <a:cubicBezTo>
                        <a:pt x="102" y="29"/>
                        <a:pt x="65" y="45"/>
                        <a:pt x="39" y="65"/>
                      </a:cubicBezTo>
                      <a:cubicBezTo>
                        <a:pt x="14" y="85"/>
                        <a:pt x="0" y="108"/>
                        <a:pt x="0" y="131"/>
                      </a:cubicBezTo>
                      <a:cubicBezTo>
                        <a:pt x="0" y="154"/>
                        <a:pt x="14" y="177"/>
                        <a:pt x="39" y="197"/>
                      </a:cubicBezTo>
                      <a:cubicBezTo>
                        <a:pt x="44" y="200"/>
                        <a:pt x="49" y="204"/>
                        <a:pt x="54" y="207"/>
                      </a:cubicBezTo>
                      <a:lnTo>
                        <a:pt x="292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8042400" y="5092560"/>
                <a:ext cx="172800" cy="104040"/>
                <a:chOff x="8042400" y="5092560"/>
                <a:chExt cx="172800" cy="10404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8043840" y="5092560"/>
                  <a:ext cx="171360" cy="104040"/>
                </a:xfrm>
                <a:custGeom>
                  <a:avLst/>
                  <a:gdLst/>
                  <a:ahLst/>
                  <a:rect l="0" t="0" r="r" b="b"/>
                  <a:pathLst>
                    <a:path w="476" h="289">
                      <a:moveTo>
                        <a:pt x="251" y="216"/>
                      </a:moveTo>
                      <a:lnTo>
                        <a:pt x="476" y="128"/>
                      </a:lnTo>
                      <a:lnTo>
                        <a:pt x="476" y="128"/>
                      </a:lnTo>
                      <a:cubicBezTo>
                        <a:pt x="472" y="120"/>
                        <a:pt x="467" y="112"/>
                        <a:pt x="462" y="104"/>
                      </a:cubicBezTo>
                      <a:cubicBezTo>
                        <a:pt x="440" y="73"/>
                        <a:pt x="409" y="46"/>
                        <a:pt x="371" y="28"/>
                      </a:cubicBezTo>
                      <a:cubicBezTo>
                        <a:pt x="334" y="10"/>
                        <a:pt x="291" y="0"/>
                        <a:pt x="248" y="0"/>
                      </a:cubicBezTo>
                      <a:cubicBezTo>
                        <a:pt x="204" y="0"/>
                        <a:pt x="161" y="10"/>
                        <a:pt x="124" y="28"/>
                      </a:cubicBezTo>
                      <a:cubicBezTo>
                        <a:pt x="86" y="46"/>
                        <a:pt x="55" y="73"/>
                        <a:pt x="33" y="104"/>
                      </a:cubicBezTo>
                      <a:cubicBezTo>
                        <a:pt x="11" y="136"/>
                        <a:pt x="0" y="172"/>
                        <a:pt x="0" y="209"/>
                      </a:cubicBezTo>
                      <a:cubicBezTo>
                        <a:pt x="0" y="236"/>
                        <a:pt x="6" y="264"/>
                        <a:pt x="19" y="289"/>
                      </a:cubicBezTo>
                      <a:lnTo>
                        <a:pt x="251" y="216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8042400" y="5121360"/>
                  <a:ext cx="168840" cy="69480"/>
                </a:xfrm>
                <a:custGeom>
                  <a:avLst/>
                  <a:gdLst/>
                  <a:ahLst/>
                  <a:rect l="0" t="0" r="r" b="b"/>
                  <a:pathLst>
                    <a:path w="469" h="193">
                      <a:moveTo>
                        <a:pt x="272" y="121"/>
                      </a:moveTo>
                      <a:lnTo>
                        <a:pt x="469" y="42"/>
                      </a:lnTo>
                      <a:lnTo>
                        <a:pt x="469" y="42"/>
                      </a:lnTo>
                      <a:cubicBezTo>
                        <a:pt x="449" y="32"/>
                        <a:pt x="425" y="23"/>
                        <a:pt x="398" y="16"/>
                      </a:cubicBezTo>
                      <a:cubicBezTo>
                        <a:pt x="357" y="6"/>
                        <a:pt x="312" y="0"/>
                        <a:pt x="265" y="0"/>
                      </a:cubicBezTo>
                      <a:cubicBezTo>
                        <a:pt x="218" y="0"/>
                        <a:pt x="173" y="6"/>
                        <a:pt x="132" y="16"/>
                      </a:cubicBezTo>
                      <a:cubicBezTo>
                        <a:pt x="92" y="26"/>
                        <a:pt x="58" y="41"/>
                        <a:pt x="35" y="59"/>
                      </a:cubicBezTo>
                      <a:cubicBezTo>
                        <a:pt x="12" y="77"/>
                        <a:pt x="0" y="97"/>
                        <a:pt x="0" y="118"/>
                      </a:cubicBezTo>
                      <a:cubicBezTo>
                        <a:pt x="0" y="138"/>
                        <a:pt x="12" y="159"/>
                        <a:pt x="35" y="177"/>
                      </a:cubicBezTo>
                      <a:cubicBezTo>
                        <a:pt x="43" y="182"/>
                        <a:pt x="51" y="188"/>
                        <a:pt x="61" y="193"/>
                      </a:cubicBezTo>
                      <a:lnTo>
                        <a:pt x="272" y="12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8218440" y="5013360"/>
                <a:ext cx="173160" cy="102960"/>
                <a:chOff x="8218440" y="5013360"/>
                <a:chExt cx="173160" cy="1029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8221680" y="5013360"/>
                  <a:ext cx="169920" cy="102960"/>
                </a:xfrm>
                <a:custGeom>
                  <a:avLst/>
                  <a:gdLst/>
                  <a:ahLst/>
                  <a:rect l="0" t="0" r="r" b="b"/>
                  <a:pathLst>
                    <a:path w="472" h="286">
                      <a:moveTo>
                        <a:pt x="249" y="214"/>
                      </a:moveTo>
                      <a:lnTo>
                        <a:pt x="472" y="127"/>
                      </a:lnTo>
                      <a:lnTo>
                        <a:pt x="472" y="127"/>
                      </a:lnTo>
                      <a:cubicBezTo>
                        <a:pt x="468" y="119"/>
                        <a:pt x="463" y="111"/>
                        <a:pt x="458" y="104"/>
                      </a:cubicBezTo>
                      <a:cubicBezTo>
                        <a:pt x="436" y="72"/>
                        <a:pt x="405" y="46"/>
                        <a:pt x="368" y="28"/>
                      </a:cubicBezTo>
                      <a:cubicBezTo>
                        <a:pt x="331" y="10"/>
                        <a:pt x="289" y="0"/>
                        <a:pt x="246" y="0"/>
                      </a:cubicBezTo>
                      <a:cubicBezTo>
                        <a:pt x="202" y="0"/>
                        <a:pt x="160" y="10"/>
                        <a:pt x="123" y="28"/>
                      </a:cubicBezTo>
                      <a:cubicBezTo>
                        <a:pt x="86" y="46"/>
                        <a:pt x="55" y="72"/>
                        <a:pt x="33" y="104"/>
                      </a:cubicBezTo>
                      <a:cubicBezTo>
                        <a:pt x="12" y="135"/>
                        <a:pt x="0" y="170"/>
                        <a:pt x="0" y="207"/>
                      </a:cubicBezTo>
                      <a:cubicBezTo>
                        <a:pt x="0" y="234"/>
                        <a:pt x="7" y="261"/>
                        <a:pt x="19" y="286"/>
                      </a:cubicBezTo>
                      <a:lnTo>
                        <a:pt x="249" y="214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8218440" y="5040360"/>
                  <a:ext cx="168840" cy="70560"/>
                </a:xfrm>
                <a:custGeom>
                  <a:avLst/>
                  <a:gdLst/>
                  <a:ahLst/>
                  <a:rect l="0" t="0" r="r" b="b"/>
                  <a:pathLst>
                    <a:path w="469" h="196">
                      <a:moveTo>
                        <a:pt x="272" y="124"/>
                      </a:moveTo>
                      <a:lnTo>
                        <a:pt x="469" y="43"/>
                      </a:lnTo>
                      <a:lnTo>
                        <a:pt x="469" y="43"/>
                      </a:lnTo>
                      <a:cubicBezTo>
                        <a:pt x="449" y="32"/>
                        <a:pt x="425" y="23"/>
                        <a:pt x="397" y="16"/>
                      </a:cubicBezTo>
                      <a:cubicBezTo>
                        <a:pt x="357" y="5"/>
                        <a:pt x="312" y="0"/>
                        <a:pt x="265" y="0"/>
                      </a:cubicBezTo>
                      <a:cubicBezTo>
                        <a:pt x="219" y="0"/>
                        <a:pt x="173" y="5"/>
                        <a:pt x="133" y="16"/>
                      </a:cubicBezTo>
                      <a:cubicBezTo>
                        <a:pt x="92" y="26"/>
                        <a:pt x="59" y="42"/>
                        <a:pt x="36" y="60"/>
                      </a:cubicBezTo>
                      <a:cubicBezTo>
                        <a:pt x="12" y="78"/>
                        <a:pt x="0" y="99"/>
                        <a:pt x="0" y="120"/>
                      </a:cubicBezTo>
                      <a:cubicBezTo>
                        <a:pt x="0" y="141"/>
                        <a:pt x="12" y="161"/>
                        <a:pt x="36" y="179"/>
                      </a:cubicBezTo>
                      <a:cubicBezTo>
                        <a:pt x="43" y="185"/>
                        <a:pt x="52" y="191"/>
                        <a:pt x="61" y="196"/>
                      </a:cubicBezTo>
                      <a:lnTo>
                        <a:pt x="272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8402760" y="4933800"/>
                <a:ext cx="171360" cy="101520"/>
                <a:chOff x="8402760" y="4933800"/>
                <a:chExt cx="171360" cy="10152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8404200" y="4933800"/>
                  <a:ext cx="169920" cy="101520"/>
                </a:xfrm>
                <a:custGeom>
                  <a:avLst/>
                  <a:gdLst/>
                  <a:ahLst/>
                  <a:rect l="0" t="0" r="r" b="b"/>
                  <a:pathLst>
                    <a:path w="472" h="282">
                      <a:moveTo>
                        <a:pt x="249" y="210"/>
                      </a:moveTo>
                      <a:lnTo>
                        <a:pt x="472" y="125"/>
                      </a:lnTo>
                      <a:lnTo>
                        <a:pt x="472" y="125"/>
                      </a:lnTo>
                      <a:cubicBezTo>
                        <a:pt x="468" y="117"/>
                        <a:pt x="463" y="110"/>
                        <a:pt x="458" y="102"/>
                      </a:cubicBezTo>
                      <a:cubicBezTo>
                        <a:pt x="436" y="71"/>
                        <a:pt x="406" y="45"/>
                        <a:pt x="368" y="28"/>
                      </a:cubicBezTo>
                      <a:cubicBezTo>
                        <a:pt x="331" y="10"/>
                        <a:pt x="289" y="0"/>
                        <a:pt x="246" y="0"/>
                      </a:cubicBezTo>
                      <a:cubicBezTo>
                        <a:pt x="202" y="0"/>
                        <a:pt x="160" y="10"/>
                        <a:pt x="123" y="28"/>
                      </a:cubicBezTo>
                      <a:cubicBezTo>
                        <a:pt x="86" y="45"/>
                        <a:pt x="55" y="71"/>
                        <a:pt x="33" y="102"/>
                      </a:cubicBezTo>
                      <a:cubicBezTo>
                        <a:pt x="11" y="133"/>
                        <a:pt x="0" y="168"/>
                        <a:pt x="0" y="204"/>
                      </a:cubicBezTo>
                      <a:cubicBezTo>
                        <a:pt x="0" y="231"/>
                        <a:pt x="7" y="257"/>
                        <a:pt x="19" y="282"/>
                      </a:cubicBezTo>
                      <a:lnTo>
                        <a:pt x="249" y="21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8402760" y="4960800"/>
                  <a:ext cx="168840" cy="70560"/>
                </a:xfrm>
                <a:custGeom>
                  <a:avLst/>
                  <a:gdLst/>
                  <a:ahLst/>
                  <a:rect l="0" t="0" r="r" b="b"/>
                  <a:pathLst>
                    <a:path w="469" h="196">
                      <a:moveTo>
                        <a:pt x="272" y="124"/>
                      </a:moveTo>
                      <a:lnTo>
                        <a:pt x="469" y="43"/>
                      </a:lnTo>
                      <a:lnTo>
                        <a:pt x="469" y="43"/>
                      </a:lnTo>
                      <a:cubicBezTo>
                        <a:pt x="449" y="32"/>
                        <a:pt x="425" y="23"/>
                        <a:pt x="397" y="16"/>
                      </a:cubicBezTo>
                      <a:cubicBezTo>
                        <a:pt x="357" y="5"/>
                        <a:pt x="312" y="0"/>
                        <a:pt x="265" y="0"/>
                      </a:cubicBezTo>
                      <a:cubicBezTo>
                        <a:pt x="219" y="0"/>
                        <a:pt x="173" y="5"/>
                        <a:pt x="133" y="16"/>
                      </a:cubicBezTo>
                      <a:cubicBezTo>
                        <a:pt x="92" y="26"/>
                        <a:pt x="59" y="42"/>
                        <a:pt x="36" y="60"/>
                      </a:cubicBezTo>
                      <a:cubicBezTo>
                        <a:pt x="12" y="78"/>
                        <a:pt x="0" y="99"/>
                        <a:pt x="0" y="120"/>
                      </a:cubicBezTo>
                      <a:cubicBezTo>
                        <a:pt x="0" y="141"/>
                        <a:pt x="12" y="161"/>
                        <a:pt x="36" y="179"/>
                      </a:cubicBezTo>
                      <a:cubicBezTo>
                        <a:pt x="43" y="185"/>
                        <a:pt x="52" y="191"/>
                        <a:pt x="61" y="196"/>
                      </a:cubicBezTo>
                      <a:lnTo>
                        <a:pt x="272" y="12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txBody>
                <a:bodyPr lIns="90000" rIns="90000" tIns="25560" bIns="25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6512040" y="4884840"/>
              <a:ext cx="2215080" cy="689400"/>
            </a:xfrm>
            <a:custGeom>
              <a:avLst/>
              <a:gdLst/>
              <a:ahLst/>
              <a:rect l="0" t="0" r="r" b="b"/>
              <a:pathLst>
                <a:path w="6153" h="1915">
                  <a:moveTo>
                    <a:pt x="0" y="1873"/>
                  </a:moveTo>
                  <a:lnTo>
                    <a:pt x="0" y="1915"/>
                  </a:lnTo>
                  <a:lnTo>
                    <a:pt x="6153" y="42"/>
                  </a:lnTo>
                  <a:lnTo>
                    <a:pt x="6153" y="0"/>
                  </a:lnTo>
                  <a:lnTo>
                    <a:pt x="0" y="187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681440" y="4513320"/>
              <a:ext cx="4048560" cy="1045080"/>
            </a:xfrm>
            <a:custGeom>
              <a:avLst/>
              <a:gdLst/>
              <a:ahLst/>
              <a:rect l="0" t="0" r="r" b="b"/>
              <a:pathLst>
                <a:path w="11246" h="2903">
                  <a:moveTo>
                    <a:pt x="0" y="1438"/>
                  </a:moveTo>
                  <a:lnTo>
                    <a:pt x="6253" y="0"/>
                  </a:lnTo>
                  <a:lnTo>
                    <a:pt x="11246" y="1022"/>
                  </a:lnTo>
                  <a:lnTo>
                    <a:pt x="5072" y="2903"/>
                  </a:lnTo>
                  <a:lnTo>
                    <a:pt x="0" y="143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84600" y="5006880"/>
              <a:ext cx="1913400" cy="567000"/>
            </a:xfrm>
            <a:custGeom>
              <a:avLst/>
              <a:gdLst/>
              <a:ahLst/>
              <a:rect l="0" t="0" r="r" b="b"/>
              <a:pathLst>
                <a:path w="5315" h="1575">
                  <a:moveTo>
                    <a:pt x="173" y="109"/>
                  </a:moveTo>
                  <a:lnTo>
                    <a:pt x="0" y="9"/>
                  </a:lnTo>
                  <a:lnTo>
                    <a:pt x="21" y="0"/>
                  </a:lnTo>
                  <a:lnTo>
                    <a:pt x="178" y="87"/>
                  </a:lnTo>
                  <a:lnTo>
                    <a:pt x="267" y="78"/>
                  </a:lnTo>
                  <a:lnTo>
                    <a:pt x="5315" y="1532"/>
                  </a:lnTo>
                  <a:lnTo>
                    <a:pt x="5315" y="1575"/>
                  </a:lnTo>
                  <a:lnTo>
                    <a:pt x="246" y="115"/>
                  </a:lnTo>
                  <a:lnTo>
                    <a:pt x="173" y="109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512040" y="5222880"/>
              <a:ext cx="2197440" cy="721080"/>
            </a:xfrm>
            <a:custGeom>
              <a:avLst/>
              <a:gdLst/>
              <a:ahLst/>
              <a:rect l="0" t="0" r="r" b="b"/>
              <a:pathLst>
                <a:path w="6104" h="2003">
                  <a:moveTo>
                    <a:pt x="6104" y="0"/>
                  </a:moveTo>
                  <a:lnTo>
                    <a:pt x="6104" y="27"/>
                  </a:lnTo>
                  <a:lnTo>
                    <a:pt x="0" y="2003"/>
                  </a:lnTo>
                  <a:lnTo>
                    <a:pt x="0" y="1957"/>
                  </a:lnTo>
                  <a:lnTo>
                    <a:pt x="610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94320" y="5391000"/>
              <a:ext cx="1903680" cy="549720"/>
            </a:xfrm>
            <a:custGeom>
              <a:avLst/>
              <a:gdLst/>
              <a:ahLst/>
              <a:rect l="0" t="0" r="r" b="b"/>
              <a:pathLst>
                <a:path w="5288" h="1527">
                  <a:moveTo>
                    <a:pt x="141" y="0"/>
                  </a:moveTo>
                  <a:lnTo>
                    <a:pt x="0" y="3"/>
                  </a:lnTo>
                  <a:lnTo>
                    <a:pt x="5" y="21"/>
                  </a:lnTo>
                  <a:lnTo>
                    <a:pt x="152" y="18"/>
                  </a:lnTo>
                  <a:lnTo>
                    <a:pt x="246" y="66"/>
                  </a:lnTo>
                  <a:lnTo>
                    <a:pt x="5288" y="1527"/>
                  </a:lnTo>
                  <a:lnTo>
                    <a:pt x="5288" y="1488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7732800" y="5006880"/>
              <a:ext cx="873720" cy="430920"/>
              <a:chOff x="7732800" y="5006880"/>
              <a:chExt cx="873720" cy="430920"/>
            </a:xfrm>
          </p:grpSpPr>
          <p:sp>
            <p:nvSpPr>
              <p:cNvPr id="111" name=""/>
              <p:cNvSpPr/>
              <p:nvPr/>
            </p:nvSpPr>
            <p:spPr>
              <a:xfrm>
                <a:off x="7732800" y="5159520"/>
                <a:ext cx="854280" cy="278280"/>
              </a:xfrm>
              <a:custGeom>
                <a:avLst/>
                <a:gdLst/>
                <a:ahLst/>
                <a:rect l="0" t="0" r="r" b="b"/>
                <a:pathLst>
                  <a:path w="2373" h="773">
                    <a:moveTo>
                      <a:pt x="2373" y="0"/>
                    </a:moveTo>
                    <a:lnTo>
                      <a:pt x="0" y="773"/>
                    </a:lnTo>
                    <a:lnTo>
                      <a:pt x="2373" y="14"/>
                    </a:lnTo>
                    <a:lnTo>
                      <a:pt x="2373" y="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151840" y="5189400"/>
                <a:ext cx="441720" cy="136800"/>
              </a:xfrm>
              <a:custGeom>
                <a:avLst/>
                <a:gdLst/>
                <a:ahLst/>
                <a:rect l="0" t="0" r="r" b="b"/>
                <a:pathLst>
                  <a:path w="1227" h="380">
                    <a:moveTo>
                      <a:pt x="0" y="380"/>
                    </a:moveTo>
                    <a:lnTo>
                      <a:pt x="1222" y="0"/>
                    </a:lnTo>
                    <a:lnTo>
                      <a:pt x="1227" y="20"/>
                    </a:lnTo>
                    <a:lnTo>
                      <a:pt x="0" y="380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185320" y="5006880"/>
                <a:ext cx="421200" cy="128880"/>
              </a:xfrm>
              <a:custGeom>
                <a:avLst/>
                <a:gdLst/>
                <a:ahLst/>
                <a:rect l="0" t="0" r="r" b="b"/>
                <a:pathLst>
                  <a:path w="1170" h="358">
                    <a:moveTo>
                      <a:pt x="0" y="358"/>
                    </a:moveTo>
                    <a:lnTo>
                      <a:pt x="1170" y="0"/>
                    </a:lnTo>
                    <a:lnTo>
                      <a:pt x="1170" y="14"/>
                    </a:lnTo>
                    <a:lnTo>
                      <a:pt x="0" y="358"/>
                    </a:lnTo>
                    <a:close/>
                  </a:path>
                </a:pathLst>
              </a:custGeom>
              <a:solidFill>
                <a:srgbClr val="3f3f3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4616280" y="4502160"/>
              <a:ext cx="2271960" cy="525960"/>
            </a:xfrm>
            <a:custGeom>
              <a:avLst/>
              <a:gdLst/>
              <a:ahLst/>
              <a:rect l="0" t="0" r="r" b="b"/>
              <a:pathLst>
                <a:path w="6311" h="1461">
                  <a:moveTo>
                    <a:pt x="0" y="1394"/>
                  </a:moveTo>
                  <a:lnTo>
                    <a:pt x="6185" y="0"/>
                  </a:lnTo>
                  <a:lnTo>
                    <a:pt x="6311" y="39"/>
                  </a:lnTo>
                  <a:lnTo>
                    <a:pt x="120" y="1461"/>
                  </a:lnTo>
                  <a:lnTo>
                    <a:pt x="0" y="139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Tool - 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825560" y="16002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Solutions Guide can be used as a solution “cookbook” which describes the most common networking problems and how can they be solved using Madg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v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479"/>
              </a:spcBef>
              <a:spcAft>
                <a:spcPts val="601"/>
              </a:spcAft>
              <a:buClr>
                <a:srgbClr val="500093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therne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479"/>
              </a:spcBef>
              <a:spcAft>
                <a:spcPts val="601"/>
              </a:spcAft>
              <a:buClr>
                <a:srgbClr val="500093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ken Ring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479"/>
              </a:spcBef>
              <a:spcAft>
                <a:spcPts val="601"/>
              </a:spcAft>
              <a:buClr>
                <a:srgbClr val="500093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TM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ts val="2599"/>
              </a:lnSpc>
              <a:spcBef>
                <a:spcPts val="479"/>
              </a:spcBef>
              <a:spcAft>
                <a:spcPts val="601"/>
              </a:spcAft>
              <a:buClr>
                <a:srgbClr val="500093"/>
              </a:buClr>
              <a:buSzPct val="110000"/>
              <a:buFont typeface="Arial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 Management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the Desktop, through Workgroup to Backb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80000"/>
              </a:lnSpc>
              <a:spcBef>
                <a:spcPts val="479"/>
              </a:spcBef>
              <a:spcAft>
                <a:spcPts val="601"/>
              </a:spcAf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Enterprise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h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901880" y="18288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The Problem/custome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Logical view of proposed solution (network dia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Physical view  (implementation using Madge equip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. Shopp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. Customer benefits (also compared to competitor’s sol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stomer scenarios are discu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57280" y="3429000"/>
            <a:ext cx="4815000" cy="3209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Ethernet Solutions</a:t>
            </a:r>
            <a:br>
              <a:rPr sz="32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walk-throu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448000" y="1752480"/>
            <a:ext cx="617220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GRATING FROM SHARED TO SWITCHED NETWOR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blem: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verloaded Ethernet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olution: Connect shared Ethernet segments to a switched back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877000" y="2836800"/>
            <a:ext cx="34020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Madge Option 1: </a:t>
            </a:r>
            <a:br>
              <a:rPr sz="1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nect modular shared Ethernet to LAN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444680" y="1828800"/>
            <a:ext cx="76327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just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arget: Customers who have already invested in shared modular LET-36/20/10 hubs and want to improve network performance by moving to switch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inserting a LANswitch LSE-404S/RJ module into the hub chassis and connect existing 10BASE-T Ethernet segments to its four segment-switching ports, the customer immediately upgrades those segments from a 10 Mbps shared backbone to a 1.28 Gbps switched backbone. The result is a dramatic boost in network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 the illustration below, an LE-140XTQ module connects all shared segments in the hub to the LANswitch LSE-404S segment switch. The LE-140XTQ can assign individual ports to any Ethernet bus segment on the backplane of the hub. In the configuration below, each port of the LE-140XTQ interfaces with a different backplane bus. These ports are then externally connected to the LSE-404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ge 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01880" y="18288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gical Vie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90800" y="2544840"/>
            <a:ext cx="609588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ge Op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901880" y="18288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ysic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333520" y="2743200"/>
            <a:ext cx="611676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e7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2130480" y="2057400"/>
            <a:ext cx="727884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adge Shopping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T-36/20/10 Hu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SE-404S/RJ Segment Switch (copp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-140XTQ  10-port Ethernet module with bus-per-port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101"/>
              </a:lnSpc>
              <a:spcBef>
                <a:spcPts val="961"/>
              </a:spcBef>
              <a:spcAft>
                <a:spcPts val="601"/>
              </a:spcAft>
              <a:buClr>
                <a:srgbClr val="fc0128"/>
              </a:buClr>
              <a:buSzPct val="8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-180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12-port shared Ethernet mod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-280X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24-port shared Ethernet mod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-240XTC 24-port shared Ethernet module (tel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1880" y="101520"/>
            <a:ext cx="75438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ts val="3300"/>
              </a:lnSpc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dge Opti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00760" y="922320"/>
            <a:ext cx="2433960" cy="2531880"/>
            <a:chOff x="6800760" y="922320"/>
            <a:chExt cx="2433960" cy="2531880"/>
          </a:xfrm>
        </p:grpSpPr>
        <p:grpSp>
          <p:nvGrpSpPr>
            <p:cNvPr id="134" name=""/>
            <p:cNvGrpSpPr/>
            <p:nvPr/>
          </p:nvGrpSpPr>
          <p:grpSpPr>
            <a:xfrm>
              <a:off x="6827760" y="1409760"/>
              <a:ext cx="745200" cy="1144800"/>
              <a:chOff x="6827760" y="1409760"/>
              <a:chExt cx="745200" cy="1144800"/>
            </a:xfrm>
          </p:grpSpPr>
          <p:sp>
            <p:nvSpPr>
              <p:cNvPr id="135" name=""/>
              <p:cNvSpPr/>
              <p:nvPr/>
            </p:nvSpPr>
            <p:spPr>
              <a:xfrm>
                <a:off x="7337520" y="1409760"/>
                <a:ext cx="235440" cy="1144800"/>
              </a:xfrm>
              <a:custGeom>
                <a:avLst/>
                <a:gdLst/>
                <a:ahLst/>
                <a:rect l="0" t="0" r="r" b="b"/>
                <a:pathLst>
                  <a:path w="654" h="3180">
                    <a:moveTo>
                      <a:pt x="654" y="0"/>
                    </a:moveTo>
                    <a:lnTo>
                      <a:pt x="654" y="2739"/>
                    </a:lnTo>
                    <a:lnTo>
                      <a:pt x="441" y="3180"/>
                    </a:lnTo>
                    <a:lnTo>
                      <a:pt x="0" y="2739"/>
                    </a:lnTo>
                    <a:lnTo>
                      <a:pt x="0" y="326"/>
                    </a:lnTo>
                    <a:lnTo>
                      <a:pt x="654" y="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827760" y="1409760"/>
                <a:ext cx="744840" cy="117720"/>
              </a:xfrm>
              <a:custGeom>
                <a:avLst/>
                <a:gdLst/>
                <a:ahLst/>
                <a:rect l="0" t="0" r="r" b="b"/>
                <a:pathLst>
                  <a:path w="2069" h="327">
                    <a:moveTo>
                      <a:pt x="2069" y="0"/>
                    </a:moveTo>
                    <a:lnTo>
                      <a:pt x="1416" y="327"/>
                    </a:lnTo>
                    <a:lnTo>
                      <a:pt x="0" y="327"/>
                    </a:lnTo>
                    <a:lnTo>
                      <a:pt x="762" y="0"/>
                    </a:lnTo>
                    <a:lnTo>
                      <a:pt x="2069" y="0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827760" y="1409760"/>
                <a:ext cx="275040" cy="1144800"/>
              </a:xfrm>
              <a:custGeom>
                <a:avLst/>
                <a:gdLst/>
                <a:ahLst/>
                <a:rect l="0" t="0" r="r" b="b"/>
                <a:pathLst>
                  <a:path w="764" h="3180">
                    <a:moveTo>
                      <a:pt x="764" y="0"/>
                    </a:moveTo>
                    <a:lnTo>
                      <a:pt x="764" y="2739"/>
                    </a:lnTo>
                    <a:lnTo>
                      <a:pt x="433" y="3180"/>
                    </a:lnTo>
                    <a:lnTo>
                      <a:pt x="0" y="2739"/>
                    </a:lnTo>
                    <a:lnTo>
                      <a:pt x="0" y="326"/>
                    </a:lnTo>
                    <a:lnTo>
                      <a:pt x="764" y="0"/>
                    </a:lnTo>
                    <a:close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27760" y="1527120"/>
                <a:ext cx="668520" cy="1027440"/>
              </a:xfrm>
              <a:custGeom>
                <a:avLst/>
                <a:gdLst/>
                <a:ahLst/>
                <a:rect l="0" t="0" r="r" b="b"/>
                <a:pathLst>
                  <a:path w="1857" h="2854">
                    <a:moveTo>
                      <a:pt x="1857" y="2854"/>
                    </a:moveTo>
                    <a:lnTo>
                      <a:pt x="432" y="2854"/>
                    </a:lnTo>
                    <a:lnTo>
                      <a:pt x="0" y="2413"/>
                    </a:lnTo>
                    <a:lnTo>
                      <a:pt x="0" y="0"/>
                    </a:lnTo>
                    <a:lnTo>
                      <a:pt x="1416" y="0"/>
                    </a:lnTo>
                    <a:lnTo>
                      <a:pt x="1416" y="2413"/>
                    </a:lnTo>
                    <a:lnTo>
                      <a:pt x="1857" y="285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7410600" y="1339920"/>
              <a:ext cx="781560" cy="1198800"/>
              <a:chOff x="7410600" y="1339920"/>
              <a:chExt cx="781560" cy="1198800"/>
            </a:xfrm>
          </p:grpSpPr>
          <p:sp>
            <p:nvSpPr>
              <p:cNvPr id="140" name=""/>
              <p:cNvSpPr/>
              <p:nvPr/>
            </p:nvSpPr>
            <p:spPr>
              <a:xfrm>
                <a:off x="7947000" y="1339920"/>
                <a:ext cx="244800" cy="1198800"/>
              </a:xfrm>
              <a:custGeom>
                <a:avLst/>
                <a:gdLst/>
                <a:ahLst/>
                <a:rect l="0" t="0" r="r" b="b"/>
                <a:pathLst>
                  <a:path w="680" h="3330">
                    <a:moveTo>
                      <a:pt x="680" y="0"/>
                    </a:moveTo>
                    <a:lnTo>
                      <a:pt x="680" y="2871"/>
                    </a:lnTo>
                    <a:lnTo>
                      <a:pt x="455" y="3330"/>
                    </a:lnTo>
                    <a:lnTo>
                      <a:pt x="0" y="2871"/>
                    </a:lnTo>
                    <a:lnTo>
                      <a:pt x="0" y="343"/>
                    </a:lnTo>
                    <a:lnTo>
                      <a:pt x="680" y="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410600" y="1339920"/>
                <a:ext cx="781560" cy="124200"/>
              </a:xfrm>
              <a:custGeom>
                <a:avLst/>
                <a:gdLst/>
                <a:ahLst/>
                <a:rect l="0" t="0" r="r" b="b"/>
                <a:pathLst>
                  <a:path w="2171" h="345">
                    <a:moveTo>
                      <a:pt x="2171" y="0"/>
                    </a:moveTo>
                    <a:lnTo>
                      <a:pt x="1491" y="345"/>
                    </a:lnTo>
                    <a:lnTo>
                      <a:pt x="0" y="345"/>
                    </a:lnTo>
                    <a:lnTo>
                      <a:pt x="799" y="0"/>
                    </a:lnTo>
                    <a:lnTo>
                      <a:pt x="2171" y="0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410600" y="1339920"/>
                <a:ext cx="287640" cy="1198800"/>
              </a:xfrm>
              <a:custGeom>
                <a:avLst/>
                <a:gdLst/>
                <a:ahLst/>
                <a:rect l="0" t="0" r="r" b="b"/>
                <a:pathLst>
                  <a:path w="799" h="3330">
                    <a:moveTo>
                      <a:pt x="799" y="0"/>
                    </a:moveTo>
                    <a:lnTo>
                      <a:pt x="799" y="2871"/>
                    </a:lnTo>
                    <a:lnTo>
                      <a:pt x="459" y="3330"/>
                    </a:lnTo>
                    <a:lnTo>
                      <a:pt x="0" y="2871"/>
                    </a:lnTo>
                    <a:lnTo>
                      <a:pt x="0" y="343"/>
                    </a:lnTo>
                    <a:lnTo>
                      <a:pt x="799" y="0"/>
                    </a:lnTo>
                    <a:close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410600" y="1463760"/>
                <a:ext cx="700560" cy="1074960"/>
              </a:xfrm>
              <a:custGeom>
                <a:avLst/>
                <a:gdLst/>
                <a:ahLst/>
                <a:rect l="0" t="0" r="r" b="b"/>
                <a:pathLst>
                  <a:path w="1946" h="2986">
                    <a:moveTo>
                      <a:pt x="1946" y="2986"/>
                    </a:moveTo>
                    <a:lnTo>
                      <a:pt x="458" y="2986"/>
                    </a:lnTo>
                    <a:lnTo>
                      <a:pt x="0" y="2527"/>
                    </a:lnTo>
                    <a:lnTo>
                      <a:pt x="0" y="0"/>
                    </a:lnTo>
                    <a:lnTo>
                      <a:pt x="1492" y="0"/>
                    </a:lnTo>
                    <a:lnTo>
                      <a:pt x="1492" y="2527"/>
                    </a:lnTo>
                    <a:lnTo>
                      <a:pt x="1946" y="2986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8037360" y="1271520"/>
              <a:ext cx="816480" cy="1249560"/>
              <a:chOff x="8037360" y="1271520"/>
              <a:chExt cx="816480" cy="1249560"/>
            </a:xfrm>
          </p:grpSpPr>
          <p:sp>
            <p:nvSpPr>
              <p:cNvPr id="145" name=""/>
              <p:cNvSpPr/>
              <p:nvPr/>
            </p:nvSpPr>
            <p:spPr>
              <a:xfrm>
                <a:off x="8596440" y="1271520"/>
                <a:ext cx="257400" cy="1249560"/>
              </a:xfrm>
              <a:custGeom>
                <a:avLst/>
                <a:gdLst/>
                <a:ahLst/>
                <a:rect l="0" t="0" r="r" b="b"/>
                <a:pathLst>
                  <a:path w="715" h="3471">
                    <a:moveTo>
                      <a:pt x="715" y="0"/>
                    </a:moveTo>
                    <a:lnTo>
                      <a:pt x="715" y="2995"/>
                    </a:lnTo>
                    <a:lnTo>
                      <a:pt x="477" y="3471"/>
                    </a:lnTo>
                    <a:lnTo>
                      <a:pt x="0" y="2995"/>
                    </a:lnTo>
                    <a:lnTo>
                      <a:pt x="0" y="357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7f5f3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7360" y="1271520"/>
                <a:ext cx="816480" cy="128880"/>
              </a:xfrm>
              <a:custGeom>
                <a:avLst/>
                <a:gdLst/>
                <a:ahLst/>
                <a:rect l="0" t="0" r="r" b="b"/>
                <a:pathLst>
                  <a:path w="2268" h="358">
                    <a:moveTo>
                      <a:pt x="2268" y="0"/>
                    </a:moveTo>
                    <a:lnTo>
                      <a:pt x="1553" y="358"/>
                    </a:lnTo>
                    <a:lnTo>
                      <a:pt x="0" y="358"/>
                    </a:lnTo>
                    <a:lnTo>
                      <a:pt x="834" y="0"/>
                    </a:lnTo>
                    <a:lnTo>
                      <a:pt x="2268" y="0"/>
                    </a:lnTo>
                    <a:close/>
                  </a:path>
                </a:pathLst>
              </a:custGeom>
              <a:solidFill>
                <a:srgbClr val="bf7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037360" y="1271520"/>
                <a:ext cx="300240" cy="1249560"/>
              </a:xfrm>
              <a:custGeom>
                <a:avLst/>
                <a:gdLst/>
                <a:ahLst/>
                <a:rect l="0" t="0" r="r" b="b"/>
                <a:pathLst>
                  <a:path w="834" h="3471">
                    <a:moveTo>
                      <a:pt x="834" y="0"/>
                    </a:moveTo>
                    <a:lnTo>
                      <a:pt x="834" y="2995"/>
                    </a:lnTo>
                    <a:lnTo>
                      <a:pt x="477" y="3471"/>
                    </a:lnTo>
                    <a:lnTo>
                      <a:pt x="0" y="2995"/>
                    </a:lnTo>
                    <a:lnTo>
                      <a:pt x="0" y="357"/>
                    </a:lnTo>
                    <a:lnTo>
                      <a:pt x="834" y="0"/>
                    </a:lnTo>
                    <a:close/>
                  </a:path>
                </a:pathLst>
              </a:custGeom>
              <a:solidFill>
                <a:srgbClr val="5f3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37360" y="1400040"/>
                <a:ext cx="730440" cy="1121040"/>
              </a:xfrm>
              <a:custGeom>
                <a:avLst/>
                <a:gdLst/>
                <a:ahLst/>
                <a:rect l="0" t="0" r="r" b="b"/>
                <a:pathLst>
                  <a:path w="2029" h="3114">
                    <a:moveTo>
                      <a:pt x="2029" y="3114"/>
                    </a:moveTo>
                    <a:lnTo>
                      <a:pt x="476" y="3114"/>
                    </a:lnTo>
                    <a:lnTo>
                      <a:pt x="0" y="2638"/>
                    </a:lnTo>
                    <a:lnTo>
                      <a:pt x="0" y="0"/>
                    </a:lnTo>
                    <a:lnTo>
                      <a:pt x="1553" y="0"/>
                    </a:lnTo>
                    <a:lnTo>
                      <a:pt x="1553" y="2638"/>
                    </a:lnTo>
                    <a:lnTo>
                      <a:pt x="2029" y="3114"/>
                    </a:lnTo>
                    <a:close/>
                  </a:path>
                </a:pathLst>
              </a:custGeom>
              <a:solidFill>
                <a:srgbClr val="9f7f5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8456760" y="1295280"/>
              <a:ext cx="451080" cy="410040"/>
            </a:xfrm>
            <a:custGeom>
              <a:avLst/>
              <a:gdLst/>
              <a:ahLst/>
              <a:rect l="0" t="0" r="r" b="b"/>
              <a:pathLst>
                <a:path w="1253" h="1139">
                  <a:moveTo>
                    <a:pt x="1253" y="1033"/>
                  </a:moveTo>
                  <a:lnTo>
                    <a:pt x="520" y="1033"/>
                  </a:lnTo>
                  <a:lnTo>
                    <a:pt x="101" y="0"/>
                  </a:lnTo>
                  <a:lnTo>
                    <a:pt x="0" y="0"/>
                  </a:lnTo>
                  <a:lnTo>
                    <a:pt x="458" y="1139"/>
                  </a:lnTo>
                  <a:lnTo>
                    <a:pt x="1253" y="1139"/>
                  </a:lnTo>
                  <a:lnTo>
                    <a:pt x="1253" y="1033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77160" y="2867040"/>
              <a:ext cx="1921320" cy="413280"/>
            </a:xfrm>
            <a:custGeom>
              <a:avLst/>
              <a:gdLst/>
              <a:ahLst/>
              <a:rect l="0" t="0" r="r" b="b"/>
              <a:pathLst>
                <a:path w="5337" h="1148">
                  <a:moveTo>
                    <a:pt x="5337" y="0"/>
                  </a:moveTo>
                  <a:lnTo>
                    <a:pt x="396" y="216"/>
                  </a:lnTo>
                  <a:lnTo>
                    <a:pt x="339" y="238"/>
                  </a:lnTo>
                  <a:lnTo>
                    <a:pt x="0" y="1077"/>
                  </a:lnTo>
                  <a:lnTo>
                    <a:pt x="141" y="1148"/>
                  </a:lnTo>
                  <a:lnTo>
                    <a:pt x="440" y="358"/>
                  </a:lnTo>
                  <a:lnTo>
                    <a:pt x="476" y="340"/>
                  </a:lnTo>
                  <a:lnTo>
                    <a:pt x="5315" y="119"/>
                  </a:lnTo>
                  <a:lnTo>
                    <a:pt x="5337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00760" y="1370160"/>
              <a:ext cx="2102040" cy="1229040"/>
            </a:xfrm>
            <a:custGeom>
              <a:avLst/>
              <a:gdLst/>
              <a:ahLst/>
              <a:rect l="0" t="0" r="r" b="b"/>
              <a:pathLst>
                <a:path w="5839" h="3414">
                  <a:moveTo>
                    <a:pt x="5839" y="92"/>
                  </a:moveTo>
                  <a:lnTo>
                    <a:pt x="101" y="948"/>
                  </a:lnTo>
                  <a:lnTo>
                    <a:pt x="101" y="3325"/>
                  </a:lnTo>
                  <a:lnTo>
                    <a:pt x="5808" y="3189"/>
                  </a:lnTo>
                  <a:lnTo>
                    <a:pt x="5808" y="3295"/>
                  </a:lnTo>
                  <a:lnTo>
                    <a:pt x="0" y="3414"/>
                  </a:lnTo>
                  <a:lnTo>
                    <a:pt x="0" y="868"/>
                  </a:lnTo>
                  <a:lnTo>
                    <a:pt x="5839" y="0"/>
                  </a:lnTo>
                  <a:lnTo>
                    <a:pt x="5839" y="9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6827760" y="1434960"/>
              <a:ext cx="2075040" cy="1121040"/>
              <a:chOff x="6827760" y="1434960"/>
              <a:chExt cx="2075040" cy="112104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6827760" y="1608120"/>
                <a:ext cx="2075040" cy="797040"/>
                <a:chOff x="6827760" y="1608120"/>
                <a:chExt cx="2075040" cy="797040"/>
              </a:xfrm>
            </p:grpSpPr>
            <p:sp>
              <p:nvSpPr>
                <p:cNvPr id="154" name=""/>
                <p:cNvSpPr/>
                <p:nvPr/>
              </p:nvSpPr>
              <p:spPr>
                <a:xfrm flipH="1">
                  <a:off x="6827760" y="1608120"/>
                  <a:ext cx="2075040" cy="2588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H="1">
                  <a:off x="6832440" y="1835280"/>
                  <a:ext cx="2070360" cy="2095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H="1">
                  <a:off x="6832440" y="2066760"/>
                  <a:ext cx="2063880" cy="15876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 flipH="1">
                  <a:off x="6837480" y="2297160"/>
                  <a:ext cx="2058840" cy="1080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085160" y="1434960"/>
                <a:ext cx="1579320" cy="1121040"/>
                <a:chOff x="7085160" y="1434960"/>
                <a:chExt cx="1579320" cy="11210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8664480" y="1434960"/>
                  <a:ext cx="0" cy="108288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8396280" y="1477800"/>
                  <a:ext cx="0" cy="10512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134200" y="1515960"/>
                  <a:ext cx="0" cy="10242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875720" y="1554120"/>
                  <a:ext cx="0" cy="9860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618320" y="1596960"/>
                  <a:ext cx="0" cy="95400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343640" y="1635120"/>
                  <a:ext cx="0" cy="91584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085160" y="1673280"/>
                  <a:ext cx="0" cy="882720"/>
                </a:xfrm>
                <a:prstGeom prst="line">
                  <a:avLst/>
                </a:prstGeom>
                <a:ln w="1260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6" name=""/>
            <p:cNvSpPr/>
            <p:nvPr/>
          </p:nvSpPr>
          <p:spPr>
            <a:xfrm>
              <a:off x="8889840" y="922320"/>
              <a:ext cx="344880" cy="2054520"/>
            </a:xfrm>
            <a:custGeom>
              <a:avLst/>
              <a:gdLst/>
              <a:ahLst/>
              <a:rect l="0" t="0" r="r" b="b"/>
              <a:pathLst>
                <a:path w="958" h="5707">
                  <a:moveTo>
                    <a:pt x="958" y="176"/>
                  </a:moveTo>
                  <a:lnTo>
                    <a:pt x="220" y="833"/>
                  </a:lnTo>
                  <a:lnTo>
                    <a:pt x="220" y="5544"/>
                  </a:lnTo>
                  <a:lnTo>
                    <a:pt x="185" y="5707"/>
                  </a:lnTo>
                  <a:lnTo>
                    <a:pt x="22" y="5707"/>
                  </a:lnTo>
                  <a:lnTo>
                    <a:pt x="0" y="5526"/>
                  </a:lnTo>
                  <a:lnTo>
                    <a:pt x="0" y="736"/>
                  </a:lnTo>
                  <a:lnTo>
                    <a:pt x="817" y="0"/>
                  </a:lnTo>
                  <a:lnTo>
                    <a:pt x="892" y="26"/>
                  </a:lnTo>
                  <a:lnTo>
                    <a:pt x="950" y="79"/>
                  </a:lnTo>
                  <a:lnTo>
                    <a:pt x="958" y="176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8699400" y="2925720"/>
              <a:ext cx="523800" cy="528480"/>
              <a:chOff x="8699400" y="2925720"/>
              <a:chExt cx="523800" cy="528480"/>
            </a:xfrm>
          </p:grpSpPr>
          <p:sp>
            <p:nvSpPr>
              <p:cNvPr id="168" name=""/>
              <p:cNvSpPr/>
              <p:nvPr/>
            </p:nvSpPr>
            <p:spPr>
              <a:xfrm>
                <a:off x="8699400" y="2925720"/>
                <a:ext cx="523800" cy="5284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771040" y="2998800"/>
                <a:ext cx="380880" cy="38268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896320" y="3124080"/>
                <a:ext cx="130320" cy="1317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6856560" y="3168720"/>
              <a:ext cx="281160" cy="281160"/>
              <a:chOff x="6856560" y="3168720"/>
              <a:chExt cx="281160" cy="281160"/>
            </a:xfrm>
          </p:grpSpPr>
          <p:sp>
            <p:nvSpPr>
              <p:cNvPr id="172" name=""/>
              <p:cNvSpPr/>
              <p:nvPr/>
            </p:nvSpPr>
            <p:spPr>
              <a:xfrm>
                <a:off x="6856560" y="3168720"/>
                <a:ext cx="281160" cy="2811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99400" y="3205080"/>
                <a:ext cx="203040" cy="203040"/>
              </a:xfrm>
              <a:prstGeom prst="ellipse">
                <a:avLst/>
              </a:prstGeom>
              <a:solidFill>
                <a:srgbClr val="80808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962760" y="3271680"/>
                <a:ext cx="69840" cy="7128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fi </dc:creator>
  <dc:description/>
  <dc:language>en-US</dc:language>
  <cp:lastModifiedBy>MADGE Israel</cp:lastModifiedBy>
  <cp:revision>0</cp:revision>
  <dc:subject/>
  <dc:title>solution guide</dc:title>
</cp:coreProperties>
</file>